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B35-377B-427D-9AF8-2AE5A070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D63-6064-4AC7-907C-2426EBC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ED4-C365-41FE-BC3A-621F531C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BFC-8753-47A1-A1B3-032DC97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FC51-E647-42A1-AD24-A3A006F3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2F04-9E71-4EA6-99BC-20F5B18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B5F1-E0D5-42DE-B5A6-7BE3CC95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AFEA-7883-46B6-8FE2-E784388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41EC-ABF0-4E30-86ED-BD5E1C4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0BB-02CA-4703-A2CB-FD42188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3130-D68C-47B2-9918-E4471AF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F38-41B7-4ED1-84BA-C8FDD8FE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7F1-96D5-4BDB-9AE8-1C290B6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2F9-5F18-4874-BDFB-2379203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5A7E-1436-47AA-B5EE-A2BB9279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00A1-F89F-496D-A68B-40B215AA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65FE-E62B-46E6-9230-61B5064F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F70-0BE1-4712-BE52-CFBCA833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D23-7D38-4DA2-BD29-40E7FDC9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5A3-2574-44B0-955A-4CA4E1F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B94-05B8-46B4-B8DF-53449D5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B5A-91EA-46A7-B3A3-D256F5F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726-0752-4145-8F48-7D63BCD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B2C-17AF-45E5-A364-C47B0C1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498-87EC-4D60-A6A4-CB197BBE11BB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Gulim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8D7-D518-4B1F-82A7-8737037708FF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9" descr="j0301252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                            </a:t>
            </a:r>
            <a:r>
              <a:rPr b="1" lang="zh-CN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毕业作业辅导</a:t>
            </a:r>
            <a:br>
              <a:rPr sz="7200"/>
            </a:b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24000" y="62064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学前教育本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757600" y="4221000"/>
            <a:ext cx="36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좋은 귀염둥이빼로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좋은 귀염둥이빼로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좋은 귀염둥이빼로"/>
              </a:rPr>
              <a:t>一七年九月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3300"/>
              </a:solidFill>
              <a:latin typeface="Arial"/>
              <a:ea typeface="宋体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幼儿入园分离焦虑产生的原因及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幼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入园分离焦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좋은 귀염둥이빼로"/>
                <a:ea typeface="좋은 귀염둥이빼로"/>
              </a:rPr>
              <a:t>提纲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64" name="Line 20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65" name="Line 18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466" name="Group 43"/>
          <p:cNvGrpSpPr/>
          <p:nvPr/>
        </p:nvGrpSpPr>
        <p:grpSpPr>
          <a:xfrm>
            <a:off x="811080" y="1989000"/>
            <a:ext cx="1744920" cy="4103640"/>
            <a:chOff x="811080" y="1989000"/>
            <a:chExt cx="1744920" cy="4103640"/>
          </a:xfrm>
        </p:grpSpPr>
        <p:cxnSp>
          <p:nvCxnSpPr>
            <p:cNvPr id="467" name="AutoShape 16"/>
            <p:cNvCxnSpPr>
              <a:stCxn id="468" idx="11"/>
              <a:endCxn id="469" idx="0"/>
            </p:cNvCxnSpPr>
            <p:nvPr/>
          </p:nvCxnSpPr>
          <p:spPr>
            <a:xfrm>
              <a:off x="1665000" y="3731760"/>
              <a:ext cx="540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70" name="AutoShape 17"/>
            <p:cNvCxnSpPr>
              <a:stCxn id="471" idx="11"/>
              <a:endCxn id="472" idx="0"/>
            </p:cNvCxnSpPr>
            <p:nvPr/>
          </p:nvCxnSpPr>
          <p:spPr>
            <a:xfrm>
              <a:off x="1665000" y="4876920"/>
              <a:ext cx="540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73" name="AutoShape 15"/>
            <p:cNvCxnSpPr/>
            <p:nvPr/>
          </p:nvCxnSpPr>
          <p:spPr>
            <a:xfrm>
              <a:off x="1692360" y="2491920"/>
              <a:ext cx="216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74" name="Group 42"/>
            <p:cNvGrpSpPr/>
            <p:nvPr/>
          </p:nvGrpSpPr>
          <p:grpSpPr>
            <a:xfrm>
              <a:off x="811080" y="3154320"/>
              <a:ext cx="1717920" cy="2938320"/>
              <a:chOff x="811080" y="3154320"/>
              <a:chExt cx="1717920" cy="2938320"/>
            </a:xfrm>
          </p:grpSpPr>
          <p:grpSp>
            <p:nvGrpSpPr>
              <p:cNvPr id="475" name="Group 9"/>
              <p:cNvGrpSpPr/>
              <p:nvPr/>
            </p:nvGrpSpPr>
            <p:grpSpPr>
              <a:xfrm>
                <a:off x="811080" y="4307040"/>
                <a:ext cx="1717920" cy="642600"/>
                <a:chOff x="811080" y="4307040"/>
                <a:chExt cx="1717920" cy="642600"/>
              </a:xfrm>
            </p:grpSpPr>
            <p:sp>
              <p:nvSpPr>
                <p:cNvPr id="471" name="Freeform 10"/>
                <p:cNvSpPr/>
                <p:nvPr/>
              </p:nvSpPr>
              <p:spPr>
                <a:xfrm>
                  <a:off x="912240" y="4677120"/>
                  <a:ext cx="1515240" cy="27252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69" name="Rectangle 11"/>
                <p:cNvSpPr/>
                <p:nvPr/>
              </p:nvSpPr>
              <p:spPr>
                <a:xfrm>
                  <a:off x="811080" y="4307040"/>
                  <a:ext cx="171792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feeb1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76" name="Group 12"/>
              <p:cNvGrpSpPr/>
              <p:nvPr/>
            </p:nvGrpSpPr>
            <p:grpSpPr>
              <a:xfrm>
                <a:off x="811080" y="5457960"/>
                <a:ext cx="1717920" cy="634680"/>
                <a:chOff x="811080" y="5457960"/>
                <a:chExt cx="1717920" cy="634680"/>
              </a:xfrm>
            </p:grpSpPr>
            <p:sp>
              <p:nvSpPr>
                <p:cNvPr id="477" name="Freeform 13"/>
                <p:cNvSpPr/>
                <p:nvPr/>
              </p:nvSpPr>
              <p:spPr>
                <a:xfrm>
                  <a:off x="912240" y="5823360"/>
                  <a:ext cx="1515240" cy="2692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72" name="Rectangle 14"/>
                <p:cNvSpPr/>
                <p:nvPr/>
              </p:nvSpPr>
              <p:spPr>
                <a:xfrm>
                  <a:off x="811080" y="5457960"/>
                  <a:ext cx="17179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7ecff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78" name="Group 6"/>
              <p:cNvGrpSpPr/>
              <p:nvPr/>
            </p:nvGrpSpPr>
            <p:grpSpPr>
              <a:xfrm>
                <a:off x="811080" y="3154320"/>
                <a:ext cx="1717920" cy="652320"/>
                <a:chOff x="811080" y="3154320"/>
                <a:chExt cx="1717920" cy="652320"/>
              </a:xfrm>
            </p:grpSpPr>
            <p:sp>
              <p:nvSpPr>
                <p:cNvPr id="468" name="Freeform 7"/>
                <p:cNvSpPr/>
                <p:nvPr/>
              </p:nvSpPr>
              <p:spPr>
                <a:xfrm>
                  <a:off x="912240" y="3530160"/>
                  <a:ext cx="1515240" cy="276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79" name="Rectangle 8"/>
                <p:cNvSpPr/>
                <p:nvPr/>
              </p:nvSpPr>
              <p:spPr>
                <a:xfrm>
                  <a:off x="811080" y="3154320"/>
                  <a:ext cx="171792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89"/>
                    </a:gs>
                    <a:gs pos="100000">
                      <a:srgbClr val="ffc3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grpSp>
          <p:nvGrpSpPr>
            <p:cNvPr id="480" name="Group 34"/>
            <p:cNvGrpSpPr/>
            <p:nvPr/>
          </p:nvGrpSpPr>
          <p:grpSpPr>
            <a:xfrm>
              <a:off x="838080" y="1989000"/>
              <a:ext cx="1717920" cy="652320"/>
              <a:chOff x="838080" y="1989000"/>
              <a:chExt cx="1717920" cy="652320"/>
            </a:xfrm>
          </p:grpSpPr>
          <p:sp>
            <p:nvSpPr>
              <p:cNvPr id="481" name="Freeform 35"/>
              <p:cNvSpPr/>
              <p:nvPr/>
            </p:nvSpPr>
            <p:spPr>
              <a:xfrm>
                <a:off x="939240" y="2364840"/>
                <a:ext cx="1515240" cy="276480"/>
              </a:xfrm>
              <a:custGeom>
                <a:avLst/>
                <a:gdLst>
                  <a:gd name="textAreaLeft" fmla="*/ 0 w 1515240"/>
                  <a:gd name="textAreaRight" fmla="*/ 1515600 w 151524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482" name="Rectangle 36"/>
              <p:cNvSpPr/>
              <p:nvPr/>
            </p:nvSpPr>
            <p:spPr>
              <a:xfrm>
                <a:off x="838080" y="1989000"/>
                <a:ext cx="171792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sp>
        <p:nvSpPr>
          <p:cNvPr id="483" name="Line 44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84" name="TextBox 25"/>
          <p:cNvSpPr/>
          <p:nvPr/>
        </p:nvSpPr>
        <p:spPr>
          <a:xfrm>
            <a:off x="2700360" y="220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文章结构要完整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85" name="TextBox 26"/>
          <p:cNvSpPr/>
          <p:nvPr/>
        </p:nvSpPr>
        <p:spPr>
          <a:xfrm>
            <a:off x="2700360" y="342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重点突出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86" name="TextBox 27"/>
          <p:cNvSpPr/>
          <p:nvPr/>
        </p:nvSpPr>
        <p:spPr>
          <a:xfrm>
            <a:off x="2700360" y="4581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三级提纲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3300"/>
              </a:solidFill>
              <a:latin typeface="Arial"/>
              <a:ea typeface="宋体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幼儿入园分离焦虑产生的原因及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  <a:ea typeface="宋体"/>
              </a:rPr>
              <a:t>引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  <a:ea typeface="宋体"/>
              </a:rPr>
              <a:t>一、幼儿入园分离焦虑的表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二、幼儿入园分离焦虑产生的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幼儿自身的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家长方面的原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教师方面的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三、缓解幼儿入园分离焦虑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家长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教师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  <a:ea typeface="宋体"/>
              </a:rPr>
              <a:t>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"/>
          <p:cNvSpPr/>
          <p:nvPr/>
        </p:nvSpPr>
        <p:spPr>
          <a:xfrm>
            <a:off x="6143760" y="3143160"/>
            <a:ext cx="221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怎么样？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좋은 귀염둥이빼로"/>
                <a:ea typeface="좋은 귀염둥이빼로"/>
              </a:rPr>
              <a:t>撰写修改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Line 19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92" name="Line 20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93" name="Line 18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494" name="Group 43"/>
          <p:cNvGrpSpPr/>
          <p:nvPr/>
        </p:nvGrpSpPr>
        <p:grpSpPr>
          <a:xfrm>
            <a:off x="811080" y="1989000"/>
            <a:ext cx="1744920" cy="4103640"/>
            <a:chOff x="811080" y="1989000"/>
            <a:chExt cx="1744920" cy="4103640"/>
          </a:xfrm>
        </p:grpSpPr>
        <p:cxnSp>
          <p:nvCxnSpPr>
            <p:cNvPr id="495" name="AutoShape 16"/>
            <p:cNvCxnSpPr>
              <a:stCxn id="496" idx="11"/>
              <a:endCxn id="497" idx="0"/>
            </p:cNvCxnSpPr>
            <p:nvPr/>
          </p:nvCxnSpPr>
          <p:spPr>
            <a:xfrm>
              <a:off x="1665000" y="3731760"/>
              <a:ext cx="540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98" name="AutoShape 17"/>
            <p:cNvCxnSpPr>
              <a:stCxn id="499" idx="11"/>
              <a:endCxn id="500" idx="0"/>
            </p:cNvCxnSpPr>
            <p:nvPr/>
          </p:nvCxnSpPr>
          <p:spPr>
            <a:xfrm>
              <a:off x="1665000" y="4876920"/>
              <a:ext cx="540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01" name="AutoShape 15"/>
            <p:cNvCxnSpPr/>
            <p:nvPr/>
          </p:nvCxnSpPr>
          <p:spPr>
            <a:xfrm>
              <a:off x="1692360" y="2491920"/>
              <a:ext cx="216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502" name="Group 42"/>
            <p:cNvGrpSpPr/>
            <p:nvPr/>
          </p:nvGrpSpPr>
          <p:grpSpPr>
            <a:xfrm>
              <a:off x="811080" y="3154320"/>
              <a:ext cx="1717920" cy="2938320"/>
              <a:chOff x="811080" y="3154320"/>
              <a:chExt cx="1717920" cy="2938320"/>
            </a:xfrm>
          </p:grpSpPr>
          <p:grpSp>
            <p:nvGrpSpPr>
              <p:cNvPr id="503" name="Group 9"/>
              <p:cNvGrpSpPr/>
              <p:nvPr/>
            </p:nvGrpSpPr>
            <p:grpSpPr>
              <a:xfrm>
                <a:off x="811080" y="4307040"/>
                <a:ext cx="1717920" cy="642600"/>
                <a:chOff x="811080" y="4307040"/>
                <a:chExt cx="1717920" cy="642600"/>
              </a:xfrm>
            </p:grpSpPr>
            <p:sp>
              <p:nvSpPr>
                <p:cNvPr id="499" name="Freeform 10"/>
                <p:cNvSpPr/>
                <p:nvPr/>
              </p:nvSpPr>
              <p:spPr>
                <a:xfrm>
                  <a:off x="912240" y="4677120"/>
                  <a:ext cx="1515240" cy="27252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97" name="Rectangle 11"/>
                <p:cNvSpPr/>
                <p:nvPr/>
              </p:nvSpPr>
              <p:spPr>
                <a:xfrm>
                  <a:off x="811080" y="4307040"/>
                  <a:ext cx="171792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feeb1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504" name="Group 12"/>
              <p:cNvGrpSpPr/>
              <p:nvPr/>
            </p:nvGrpSpPr>
            <p:grpSpPr>
              <a:xfrm>
                <a:off x="811080" y="5457960"/>
                <a:ext cx="1717920" cy="634680"/>
                <a:chOff x="811080" y="5457960"/>
                <a:chExt cx="1717920" cy="634680"/>
              </a:xfrm>
            </p:grpSpPr>
            <p:sp>
              <p:nvSpPr>
                <p:cNvPr id="505" name="Freeform 13"/>
                <p:cNvSpPr/>
                <p:nvPr/>
              </p:nvSpPr>
              <p:spPr>
                <a:xfrm>
                  <a:off x="912240" y="5823360"/>
                  <a:ext cx="1515240" cy="2692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500" name="Rectangle 14"/>
                <p:cNvSpPr/>
                <p:nvPr/>
              </p:nvSpPr>
              <p:spPr>
                <a:xfrm>
                  <a:off x="811080" y="5457960"/>
                  <a:ext cx="17179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7ecff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506" name="Group 6"/>
              <p:cNvGrpSpPr/>
              <p:nvPr/>
            </p:nvGrpSpPr>
            <p:grpSpPr>
              <a:xfrm>
                <a:off x="811080" y="3154320"/>
                <a:ext cx="1717920" cy="652320"/>
                <a:chOff x="811080" y="3154320"/>
                <a:chExt cx="1717920" cy="652320"/>
              </a:xfrm>
            </p:grpSpPr>
            <p:sp>
              <p:nvSpPr>
                <p:cNvPr id="496" name="Freeform 7"/>
                <p:cNvSpPr/>
                <p:nvPr/>
              </p:nvSpPr>
              <p:spPr>
                <a:xfrm>
                  <a:off x="912240" y="3530160"/>
                  <a:ext cx="1515240" cy="276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507" name="Rectangle 8"/>
                <p:cNvSpPr/>
                <p:nvPr/>
              </p:nvSpPr>
              <p:spPr>
                <a:xfrm>
                  <a:off x="811080" y="3154320"/>
                  <a:ext cx="171792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89"/>
                    </a:gs>
                    <a:gs pos="100000">
                      <a:srgbClr val="ffc3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grpSp>
          <p:nvGrpSpPr>
            <p:cNvPr id="508" name="Group 34"/>
            <p:cNvGrpSpPr/>
            <p:nvPr/>
          </p:nvGrpSpPr>
          <p:grpSpPr>
            <a:xfrm>
              <a:off x="838080" y="1989000"/>
              <a:ext cx="1717920" cy="652320"/>
              <a:chOff x="838080" y="1989000"/>
              <a:chExt cx="1717920" cy="652320"/>
            </a:xfrm>
          </p:grpSpPr>
          <p:sp>
            <p:nvSpPr>
              <p:cNvPr id="509" name="Freeform 35"/>
              <p:cNvSpPr/>
              <p:nvPr/>
            </p:nvSpPr>
            <p:spPr>
              <a:xfrm>
                <a:off x="939240" y="2364840"/>
                <a:ext cx="1515240" cy="276480"/>
              </a:xfrm>
              <a:custGeom>
                <a:avLst/>
                <a:gdLst>
                  <a:gd name="textAreaLeft" fmla="*/ 0 w 1515240"/>
                  <a:gd name="textAreaRight" fmla="*/ 1515600 w 151524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510" name="Rectangle 36"/>
              <p:cNvSpPr/>
              <p:nvPr/>
            </p:nvSpPr>
            <p:spPr>
              <a:xfrm>
                <a:off x="838080" y="1989000"/>
                <a:ext cx="171792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sp>
        <p:nvSpPr>
          <p:cNvPr id="511" name="Line 44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12" name="TextBox 25"/>
          <p:cNvSpPr/>
          <p:nvPr/>
        </p:nvSpPr>
        <p:spPr>
          <a:xfrm>
            <a:off x="2700360" y="220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成文格式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13" name="TextBox 26"/>
          <p:cNvSpPr/>
          <p:nvPr/>
        </p:nvSpPr>
        <p:spPr>
          <a:xfrm>
            <a:off x="2700360" y="342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字数不得少于</a:t>
            </a:r>
            <a:r>
              <a:rPr b="1" lang="en-US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2700360" y="4581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及时与指导老师联系修改二稿以上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15" name="TextBox 28"/>
          <p:cNvSpPr/>
          <p:nvPr/>
        </p:nvSpPr>
        <p:spPr>
          <a:xfrm>
            <a:off x="2700360" y="55897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指导老师同意后方可定稿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其他未尽事宜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严格按要求排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定稿后单面打印，一式五份，于答辩当天随身携带五份打印稿到答辩现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关材料电子版请至班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群下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좋은 귀염둥이빼로"/>
                <a:ea typeface="좋은 귀염둥이빼로"/>
              </a:rPr>
              <a:t>答辩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20" name="Line 20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522" name="Group 43"/>
          <p:cNvGrpSpPr/>
          <p:nvPr/>
        </p:nvGrpSpPr>
        <p:grpSpPr>
          <a:xfrm>
            <a:off x="811080" y="1989000"/>
            <a:ext cx="1744920" cy="4103640"/>
            <a:chOff x="811080" y="1989000"/>
            <a:chExt cx="1744920" cy="4103640"/>
          </a:xfrm>
        </p:grpSpPr>
        <p:cxnSp>
          <p:nvCxnSpPr>
            <p:cNvPr id="523" name="AutoShape 16"/>
            <p:cNvCxnSpPr>
              <a:stCxn id="524" idx="11"/>
              <a:endCxn id="525" idx="0"/>
            </p:cNvCxnSpPr>
            <p:nvPr/>
          </p:nvCxnSpPr>
          <p:spPr>
            <a:xfrm>
              <a:off x="1665000" y="3731760"/>
              <a:ext cx="540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26" name="AutoShape 17"/>
            <p:cNvCxnSpPr>
              <a:stCxn id="527" idx="11"/>
              <a:endCxn id="528" idx="0"/>
            </p:cNvCxnSpPr>
            <p:nvPr/>
          </p:nvCxnSpPr>
          <p:spPr>
            <a:xfrm>
              <a:off x="1665000" y="4876920"/>
              <a:ext cx="540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529" name="AutoShape 15"/>
            <p:cNvCxnSpPr/>
            <p:nvPr/>
          </p:nvCxnSpPr>
          <p:spPr>
            <a:xfrm>
              <a:off x="1692360" y="2491920"/>
              <a:ext cx="216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530" name="Group 42"/>
            <p:cNvGrpSpPr/>
            <p:nvPr/>
          </p:nvGrpSpPr>
          <p:grpSpPr>
            <a:xfrm>
              <a:off x="811080" y="3154320"/>
              <a:ext cx="1717920" cy="2938320"/>
              <a:chOff x="811080" y="3154320"/>
              <a:chExt cx="1717920" cy="2938320"/>
            </a:xfrm>
          </p:grpSpPr>
          <p:grpSp>
            <p:nvGrpSpPr>
              <p:cNvPr id="531" name="Group 9"/>
              <p:cNvGrpSpPr/>
              <p:nvPr/>
            </p:nvGrpSpPr>
            <p:grpSpPr>
              <a:xfrm>
                <a:off x="811080" y="4307040"/>
                <a:ext cx="1717920" cy="642600"/>
                <a:chOff x="811080" y="4307040"/>
                <a:chExt cx="1717920" cy="642600"/>
              </a:xfrm>
            </p:grpSpPr>
            <p:sp>
              <p:nvSpPr>
                <p:cNvPr id="527" name="Freeform 10"/>
                <p:cNvSpPr/>
                <p:nvPr/>
              </p:nvSpPr>
              <p:spPr>
                <a:xfrm>
                  <a:off x="912240" y="4677120"/>
                  <a:ext cx="1515240" cy="27252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525" name="Rectangle 11"/>
                <p:cNvSpPr/>
                <p:nvPr/>
              </p:nvSpPr>
              <p:spPr>
                <a:xfrm>
                  <a:off x="811080" y="4307040"/>
                  <a:ext cx="171792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feeb1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532" name="Group 12"/>
              <p:cNvGrpSpPr/>
              <p:nvPr/>
            </p:nvGrpSpPr>
            <p:grpSpPr>
              <a:xfrm>
                <a:off x="811080" y="5457960"/>
                <a:ext cx="1717920" cy="634680"/>
                <a:chOff x="811080" y="5457960"/>
                <a:chExt cx="1717920" cy="634680"/>
              </a:xfrm>
            </p:grpSpPr>
            <p:sp>
              <p:nvSpPr>
                <p:cNvPr id="533" name="Freeform 13"/>
                <p:cNvSpPr/>
                <p:nvPr/>
              </p:nvSpPr>
              <p:spPr>
                <a:xfrm>
                  <a:off x="912240" y="5823360"/>
                  <a:ext cx="1515240" cy="2692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528" name="Rectangle 14"/>
                <p:cNvSpPr/>
                <p:nvPr/>
              </p:nvSpPr>
              <p:spPr>
                <a:xfrm>
                  <a:off x="811080" y="5457960"/>
                  <a:ext cx="17179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7ecff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534" name="Group 6"/>
              <p:cNvGrpSpPr/>
              <p:nvPr/>
            </p:nvGrpSpPr>
            <p:grpSpPr>
              <a:xfrm>
                <a:off x="811080" y="3154320"/>
                <a:ext cx="1717920" cy="652320"/>
                <a:chOff x="811080" y="3154320"/>
                <a:chExt cx="1717920" cy="652320"/>
              </a:xfrm>
            </p:grpSpPr>
            <p:sp>
              <p:nvSpPr>
                <p:cNvPr id="524" name="Freeform 7"/>
                <p:cNvSpPr/>
                <p:nvPr/>
              </p:nvSpPr>
              <p:spPr>
                <a:xfrm>
                  <a:off x="912240" y="3530160"/>
                  <a:ext cx="1515240" cy="276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535" name="Rectangle 8"/>
                <p:cNvSpPr/>
                <p:nvPr/>
              </p:nvSpPr>
              <p:spPr>
                <a:xfrm>
                  <a:off x="811080" y="3154320"/>
                  <a:ext cx="171792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89"/>
                    </a:gs>
                    <a:gs pos="100000">
                      <a:srgbClr val="ffc3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grpSp>
          <p:nvGrpSpPr>
            <p:cNvPr id="536" name="Group 34"/>
            <p:cNvGrpSpPr/>
            <p:nvPr/>
          </p:nvGrpSpPr>
          <p:grpSpPr>
            <a:xfrm>
              <a:off x="838080" y="1989000"/>
              <a:ext cx="1717920" cy="652320"/>
              <a:chOff x="838080" y="1989000"/>
              <a:chExt cx="1717920" cy="652320"/>
            </a:xfrm>
          </p:grpSpPr>
          <p:sp>
            <p:nvSpPr>
              <p:cNvPr id="537" name="Freeform 35"/>
              <p:cNvSpPr/>
              <p:nvPr/>
            </p:nvSpPr>
            <p:spPr>
              <a:xfrm>
                <a:off x="939240" y="2364840"/>
                <a:ext cx="1515240" cy="276480"/>
              </a:xfrm>
              <a:custGeom>
                <a:avLst/>
                <a:gdLst>
                  <a:gd name="textAreaLeft" fmla="*/ 0 w 1515240"/>
                  <a:gd name="textAreaRight" fmla="*/ 1515600 w 151524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538" name="Rectangle 36"/>
              <p:cNvSpPr/>
              <p:nvPr/>
            </p:nvSpPr>
            <p:spPr>
              <a:xfrm>
                <a:off x="838080" y="1989000"/>
                <a:ext cx="171792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sp>
        <p:nvSpPr>
          <p:cNvPr id="539" name="Line 44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2700360" y="2205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熟悉自己的论文结构及内容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2700360" y="342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熟悉文中引用的材料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2700360" y="4581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为什么？怎么样？收获？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2700360" y="55897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态度要诚恳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其他未尽事宜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老师同意定稿后，方可参加答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顺利通过答辩，论文无须修改，于答辩当天上交一份论文定稿打印件即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答辩老师提出修改意见，须在三天内完成修改，经指导老师同意后，打印一份交班主任老师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申请学位的同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좋은 귀염둥이빼로"/>
              </a:rPr>
              <a:t>注意点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得抄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与专业相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数必须达到要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动与指导老师联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态度谦虚认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3300"/>
              </a:solidFill>
              <a:latin typeface="Arial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请严格按时间节点来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参加集中辅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，完成三份实习作业；完成毕业论文初稿、二稿的写作并接受指导老师的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，完成毕业论文定稿并打印，准备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日，论文答辩，上交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9" descr="j0301252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                            </a:t>
            </a:r>
            <a:r>
              <a:rPr b="1" lang="zh-CN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祝大家好运！</a:t>
            </a: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좋은 귀염둥이빼로"/>
              </a:rPr>
              <a:t>我的联系方式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蔡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手机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9576745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Q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73258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回家流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微信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j1573258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回家流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732584@qq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2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146" name="Rectangle 3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1044720" y="3070080"/>
              <a:ext cx="3311280" cy="28800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4444"/>
                </a:gs>
                <a:gs pos="5000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HY얕은샘물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HY얕은샘물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5074920" y="3070080"/>
              <a:ext cx="3384360" cy="28800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5911d"/>
                </a:gs>
                <a:gs pos="5000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152" name="Oval 15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714240" y="2133720"/>
            <a:ext cx="1409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4" name="Oval 18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7" name="Oval 26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8" name="Oval 27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1692360" y="37893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实习</a:t>
            </a:r>
            <a:endParaRPr b="0" lang="en-US" sz="4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940360" y="3789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论文</a:t>
            </a:r>
            <a:endParaRPr b="0" lang="en-US" sz="4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1116000" y="7650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任务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89"/>
          <p:cNvGrpSpPr/>
          <p:nvPr/>
        </p:nvGrpSpPr>
        <p:grpSpPr>
          <a:xfrm>
            <a:off x="1620720" y="2139840"/>
            <a:ext cx="5913720" cy="2308320"/>
            <a:chOff x="1620720" y="2139840"/>
            <a:chExt cx="5913720" cy="2308320"/>
          </a:xfrm>
        </p:grpSpPr>
        <p:sp>
          <p:nvSpPr>
            <p:cNvPr id="164" name="Freeform 4"/>
            <p:cNvSpPr/>
            <p:nvPr/>
          </p:nvSpPr>
          <p:spPr>
            <a:xfrm>
              <a:off x="1620720" y="2219400"/>
              <a:ext cx="2097360" cy="2211480"/>
            </a:xfrm>
            <a:custGeom>
              <a:avLst/>
              <a:gdLst>
                <a:gd name="textAreaLeft" fmla="*/ 0 w 2097360"/>
                <a:gd name="textAreaRight" fmla="*/ 2097720 w 2097360"/>
                <a:gd name="textAreaTop" fmla="*/ 0 h 2211480"/>
                <a:gd name="textAreaBottom" fmla="*/ 2211840 h 2211480"/>
              </a:gdLst>
              <a:ahLst/>
              <a:rect l="textAreaLeft" t="textAreaTop" r="textAreaRight" b="textAreaBottom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 flipH="1">
              <a:off x="5437080" y="2219400"/>
              <a:ext cx="2097360" cy="2211480"/>
            </a:xfrm>
            <a:custGeom>
              <a:avLst/>
              <a:gdLst>
                <a:gd name="textAreaLeft" fmla="*/ 360 w 2097360"/>
                <a:gd name="textAreaRight" fmla="*/ 2098080 w 2097360"/>
                <a:gd name="textAreaTop" fmla="*/ 0 h 2211480"/>
                <a:gd name="textAreaBottom" fmla="*/ 2211840 h 2211480"/>
              </a:gdLst>
              <a:ahLst/>
              <a:rect l="textAreaLeft" t="textAreaTop" r="textAreaRight" b="textAreaBottom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4356000" y="2139840"/>
              <a:ext cx="625680" cy="2308320"/>
            </a:xfrm>
            <a:custGeom>
              <a:avLst/>
              <a:gdLst>
                <a:gd name="textAreaLeft" fmla="*/ 0 w 625680"/>
                <a:gd name="textAreaRight" fmla="*/ 625680 w 625680"/>
                <a:gd name="textAreaTop" fmla="*/ 0 h 2308320"/>
                <a:gd name="textAreaBottom" fmla="*/ 2308680 h 230832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68" name="Group 65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69" name="AutoShape 66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70" name="AutoShape 67"/>
              <p:cNvSpPr/>
              <p:nvPr/>
            </p:nvSpPr>
            <p:spPr>
              <a:xfrm>
                <a:off x="2493000" y="1218240"/>
                <a:ext cx="4132440" cy="9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425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42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  <p:sp>
          <p:nvSpPr>
            <p:cNvPr id="171" name="Rectangle 68"/>
            <p:cNvSpPr/>
            <p:nvPr/>
          </p:nvSpPr>
          <p:spPr>
            <a:xfrm>
              <a:off x="2782800" y="1470960"/>
              <a:ext cx="35575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172" name="Group 53"/>
          <p:cNvGrpSpPr/>
          <p:nvPr/>
        </p:nvGrpSpPr>
        <p:grpSpPr>
          <a:xfrm>
            <a:off x="1356480" y="5632200"/>
            <a:ext cx="1320840" cy="532440"/>
            <a:chOff x="1356480" y="5632200"/>
            <a:chExt cx="1320840" cy="532440"/>
          </a:xfrm>
        </p:grpSpPr>
        <p:grpSp>
          <p:nvGrpSpPr>
            <p:cNvPr id="173" name="Group 54"/>
            <p:cNvGrpSpPr/>
            <p:nvPr/>
          </p:nvGrpSpPr>
          <p:grpSpPr>
            <a:xfrm>
              <a:off x="1590120" y="5635800"/>
              <a:ext cx="1087200" cy="509040"/>
              <a:chOff x="1590120" y="5635800"/>
              <a:chExt cx="1087200" cy="509040"/>
            </a:xfrm>
          </p:grpSpPr>
          <p:sp>
            <p:nvSpPr>
              <p:cNvPr id="174" name="AutoShape 55"/>
              <p:cNvSpPr/>
              <p:nvPr/>
            </p:nvSpPr>
            <p:spPr>
              <a:xfrm flipH="1" flipV="1" rot="3964800">
                <a:off x="2171880" y="5496840"/>
                <a:ext cx="20772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75" name="AutoShape 56"/>
              <p:cNvSpPr/>
              <p:nvPr/>
            </p:nvSpPr>
            <p:spPr>
              <a:xfrm flipH="1" flipV="1" rot="4780200">
                <a:off x="2049840" y="5546160"/>
                <a:ext cx="20772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76" name="AutoShape 57"/>
              <p:cNvSpPr/>
              <p:nvPr/>
            </p:nvSpPr>
            <p:spPr>
              <a:xfrm flipH="1" flipV="1" rot="5076000">
                <a:off x="1974960" y="5554440"/>
                <a:ext cx="20772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77" name="AutoShape 58"/>
              <p:cNvSpPr/>
              <p:nvPr/>
            </p:nvSpPr>
            <p:spPr>
              <a:xfrm flipH="1" flipV="1" rot="5608200">
                <a:off x="1883880" y="5560560"/>
                <a:ext cx="20772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  <p:grpSp>
          <p:nvGrpSpPr>
            <p:cNvPr id="178" name="Group 59"/>
            <p:cNvGrpSpPr/>
            <p:nvPr/>
          </p:nvGrpSpPr>
          <p:grpSpPr>
            <a:xfrm>
              <a:off x="1356480" y="5632200"/>
              <a:ext cx="1082520" cy="532440"/>
              <a:chOff x="1356480" y="5632200"/>
              <a:chExt cx="1082520" cy="532440"/>
            </a:xfrm>
          </p:grpSpPr>
          <p:sp>
            <p:nvSpPr>
              <p:cNvPr id="179" name="AutoShape 60"/>
              <p:cNvSpPr/>
              <p:nvPr/>
            </p:nvSpPr>
            <p:spPr>
              <a:xfrm flipH="1" flipV="1" rot="5317800">
                <a:off x="1938600" y="5557680"/>
                <a:ext cx="2091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80" name="AutoShape 61"/>
              <p:cNvSpPr/>
              <p:nvPr/>
            </p:nvSpPr>
            <p:spPr>
              <a:xfrm flipH="1" flipV="1" rot="6133800">
                <a:off x="1809000" y="555552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81" name="AutoShape 62"/>
              <p:cNvSpPr/>
              <p:nvPr/>
            </p:nvSpPr>
            <p:spPr>
              <a:xfrm flipH="1" flipV="1" rot="6429000">
                <a:off x="1735560" y="553464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182" name="AutoShape 63"/>
              <p:cNvSpPr/>
              <p:nvPr/>
            </p:nvSpPr>
            <p:spPr>
              <a:xfrm flipH="1" flipV="1" rot="6961200">
                <a:off x="1650240" y="5505120"/>
                <a:ext cx="2091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grpSp>
        <p:nvGrpSpPr>
          <p:cNvPr id="183" name="AutoShape 72"/>
          <p:cNvGrpSpPr/>
          <p:nvPr/>
        </p:nvGrpSpPr>
        <p:grpSpPr>
          <a:xfrm>
            <a:off x="665280" y="3286080"/>
            <a:ext cx="2631960" cy="2822760"/>
            <a:chOff x="665280" y="3286080"/>
            <a:chExt cx="2631960" cy="2822760"/>
          </a:xfrm>
        </p:grpSpPr>
        <p:pic>
          <p:nvPicPr>
            <p:cNvPr id="184" name="AutoShape 72" descr=""/>
            <p:cNvPicPr/>
            <p:nvPr/>
          </p:nvPicPr>
          <p:blipFill>
            <a:blip r:embed="rId2"/>
            <a:stretch/>
          </p:blipFill>
          <p:spPr>
            <a:xfrm>
              <a:off x="665280" y="3286080"/>
              <a:ext cx="263196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5400000">
              <a:off x="738360" y="3550320"/>
              <a:ext cx="2484360" cy="22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186" name="Freeform 77"/>
          <p:cNvSpPr/>
          <p:nvPr/>
        </p:nvSpPr>
        <p:spPr>
          <a:xfrm>
            <a:off x="755640" y="3324240"/>
            <a:ext cx="2448000" cy="5540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188" name="AutoShape 75"/>
          <p:cNvGrpSpPr/>
          <p:nvPr/>
        </p:nvGrpSpPr>
        <p:grpSpPr>
          <a:xfrm>
            <a:off x="3402000" y="3286080"/>
            <a:ext cx="2627280" cy="2822760"/>
            <a:chOff x="3402000" y="3286080"/>
            <a:chExt cx="2627280" cy="2822760"/>
          </a:xfrm>
        </p:grpSpPr>
        <p:pic>
          <p:nvPicPr>
            <p:cNvPr id="189" name="AutoShape 75" descr=""/>
            <p:cNvPicPr/>
            <p:nvPr/>
          </p:nvPicPr>
          <p:blipFill>
            <a:blip r:embed="rId3"/>
            <a:stretch/>
          </p:blipFill>
          <p:spPr>
            <a:xfrm>
              <a:off x="3402000" y="3286080"/>
              <a:ext cx="262728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5400000">
              <a:off x="3474000" y="3550320"/>
              <a:ext cx="2484360" cy="22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191" name="Freeform 78"/>
          <p:cNvSpPr/>
          <p:nvPr/>
        </p:nvSpPr>
        <p:spPr>
          <a:xfrm>
            <a:off x="3492360" y="3324240"/>
            <a:ext cx="2448000" cy="476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2" name="Text Box 91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193" name="AutoShape 76"/>
          <p:cNvGrpSpPr/>
          <p:nvPr/>
        </p:nvGrpSpPr>
        <p:grpSpPr>
          <a:xfrm>
            <a:off x="6138720" y="3286080"/>
            <a:ext cx="2627280" cy="2822760"/>
            <a:chOff x="6138720" y="3286080"/>
            <a:chExt cx="2627280" cy="2822760"/>
          </a:xfrm>
        </p:grpSpPr>
        <p:pic>
          <p:nvPicPr>
            <p:cNvPr id="194" name="AutoShape 76" descr=""/>
            <p:cNvPicPr/>
            <p:nvPr/>
          </p:nvPicPr>
          <p:blipFill>
            <a:blip r:embed="rId4"/>
            <a:stretch/>
          </p:blipFill>
          <p:spPr>
            <a:xfrm>
              <a:off x="6138720" y="3286080"/>
              <a:ext cx="262728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5400000">
              <a:off x="6210720" y="3550320"/>
              <a:ext cx="2484360" cy="22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196" name="Freeform 79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7" name="Text Box 92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8" name="TextBox 33"/>
          <p:cNvSpPr/>
          <p:nvPr/>
        </p:nvSpPr>
        <p:spPr>
          <a:xfrm>
            <a:off x="3995640" y="1341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习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900000" y="422100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个案观察分析记录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00" name="TextBox 35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教学活动设计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651672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指导教师评价表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475308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좋은 귀염둥이빼로"/>
              </a:rPr>
              <a:t>实习注意事项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468360" y="1916280"/>
            <a:ext cx="647640" cy="648720"/>
            <a:chOff x="468360" y="1916280"/>
            <a:chExt cx="647640" cy="648720"/>
          </a:xfrm>
        </p:grpSpPr>
        <p:sp>
          <p:nvSpPr>
            <p:cNvPr id="204" name="Freeform 4"/>
            <p:cNvSpPr/>
            <p:nvPr/>
          </p:nvSpPr>
          <p:spPr>
            <a:xfrm>
              <a:off x="506520" y="2289960"/>
              <a:ext cx="571320" cy="27504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468360" y="1916280"/>
              <a:ext cx="647640" cy="569160"/>
            </a:xfrm>
            <a:prstGeom prst="rect">
              <a:avLst/>
            </a:prstGeom>
            <a:gradFill rotWithShape="0">
              <a:gsLst>
                <a:gs pos="0">
                  <a:srgbClr val="ffb2b2"/>
                </a:gs>
                <a:gs pos="100000">
                  <a:srgbClr val="ff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468360" y="3017880"/>
            <a:ext cx="647640" cy="626760"/>
            <a:chOff x="468360" y="3017880"/>
            <a:chExt cx="647640" cy="626760"/>
          </a:xfrm>
        </p:grpSpPr>
        <p:sp>
          <p:nvSpPr>
            <p:cNvPr id="207" name="Freeform 10"/>
            <p:cNvSpPr/>
            <p:nvPr/>
          </p:nvSpPr>
          <p:spPr>
            <a:xfrm>
              <a:off x="506520" y="3378960"/>
              <a:ext cx="571320" cy="2656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468360" y="3017880"/>
              <a:ext cx="647640" cy="551160"/>
            </a:xfrm>
            <a:prstGeom prst="rect">
              <a:avLst/>
            </a:prstGeom>
            <a:gradFill rotWithShape="0">
              <a:gsLst>
                <a:gs pos="0">
                  <a:srgbClr val="dfeeb1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cxnSp>
        <p:nvCxnSpPr>
          <p:cNvPr id="209" name="AutoShape 15"/>
          <p:cNvCxnSpPr>
            <a:stCxn id="204" idx="11"/>
            <a:endCxn id="208" idx="0"/>
          </p:cNvCxnSpPr>
          <p:nvPr/>
        </p:nvCxnSpPr>
        <p:spPr>
          <a:xfrm>
            <a:off x="790560" y="2490840"/>
            <a:ext cx="2160" cy="527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10" name="AutoShape 17"/>
          <p:cNvCxnSpPr>
            <a:stCxn id="207" idx="11"/>
            <a:endCxn id="211" idx="0"/>
          </p:cNvCxnSpPr>
          <p:nvPr/>
        </p:nvCxnSpPr>
        <p:spPr>
          <a:xfrm>
            <a:off x="790560" y="3573000"/>
            <a:ext cx="2160" cy="5756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12" name="Line 18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468360" y="4148280"/>
            <a:ext cx="647640" cy="575640"/>
            <a:chOff x="468360" y="4148280"/>
            <a:chExt cx="647640" cy="575640"/>
          </a:xfrm>
        </p:grpSpPr>
        <p:sp>
          <p:nvSpPr>
            <p:cNvPr id="214" name="Freeform 26"/>
            <p:cNvSpPr/>
            <p:nvPr/>
          </p:nvSpPr>
          <p:spPr>
            <a:xfrm>
              <a:off x="506520" y="4479840"/>
              <a:ext cx="571320" cy="2440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11" name="Rectangle 27"/>
            <p:cNvSpPr/>
            <p:nvPr/>
          </p:nvSpPr>
          <p:spPr>
            <a:xfrm>
              <a:off x="468360" y="4148280"/>
              <a:ext cx="647640" cy="504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15" name="Group 32"/>
          <p:cNvGrpSpPr/>
          <p:nvPr/>
        </p:nvGrpSpPr>
        <p:grpSpPr>
          <a:xfrm>
            <a:off x="900000" y="3214800"/>
            <a:ext cx="7704360" cy="579240"/>
            <a:chOff x="900000" y="3214800"/>
            <a:chExt cx="7704360" cy="579240"/>
          </a:xfrm>
        </p:grpSpPr>
        <p:sp>
          <p:nvSpPr>
            <p:cNvPr id="216" name="Line 33"/>
            <p:cNvSpPr/>
            <p:nvPr/>
          </p:nvSpPr>
          <p:spPr>
            <a:xfrm>
              <a:off x="900000" y="3741480"/>
              <a:ext cx="770436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1073160" y="321480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18" name="Group 35"/>
          <p:cNvGrpSpPr/>
          <p:nvPr/>
        </p:nvGrpSpPr>
        <p:grpSpPr>
          <a:xfrm>
            <a:off x="900000" y="4294080"/>
            <a:ext cx="7704360" cy="579600"/>
            <a:chOff x="900000" y="4294080"/>
            <a:chExt cx="7704360" cy="579600"/>
          </a:xfrm>
        </p:grpSpPr>
        <p:sp>
          <p:nvSpPr>
            <p:cNvPr id="219" name="Line 36"/>
            <p:cNvSpPr/>
            <p:nvPr/>
          </p:nvSpPr>
          <p:spPr>
            <a:xfrm>
              <a:off x="900000" y="4821120"/>
              <a:ext cx="770436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1073160" y="42940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cxnSp>
        <p:nvCxnSpPr>
          <p:cNvPr id="221" name="AutoShape 41"/>
          <p:cNvCxnSpPr>
            <a:endCxn id="222" idx="0"/>
          </p:cNvCxnSpPr>
          <p:nvPr/>
        </p:nvCxnSpPr>
        <p:spPr>
          <a:xfrm flipH="1">
            <a:off x="791640" y="4654440"/>
            <a:ext cx="5760" cy="5040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223" name="Group 42"/>
          <p:cNvGrpSpPr/>
          <p:nvPr/>
        </p:nvGrpSpPr>
        <p:grpSpPr>
          <a:xfrm>
            <a:off x="468360" y="5157720"/>
            <a:ext cx="647640" cy="576360"/>
            <a:chOff x="468360" y="5157720"/>
            <a:chExt cx="647640" cy="576360"/>
          </a:xfrm>
        </p:grpSpPr>
        <p:sp>
          <p:nvSpPr>
            <p:cNvPr id="224" name="Freeform 43"/>
            <p:cNvSpPr/>
            <p:nvPr/>
          </p:nvSpPr>
          <p:spPr>
            <a:xfrm>
              <a:off x="506520" y="5489640"/>
              <a:ext cx="571320" cy="24444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22" name="Rectangle 44"/>
            <p:cNvSpPr/>
            <p:nvPr/>
          </p:nvSpPr>
          <p:spPr>
            <a:xfrm>
              <a:off x="468360" y="5157720"/>
              <a:ext cx="647640" cy="50436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25" name="Group 48"/>
          <p:cNvGrpSpPr/>
          <p:nvPr/>
        </p:nvGrpSpPr>
        <p:grpSpPr>
          <a:xfrm>
            <a:off x="828720" y="5297400"/>
            <a:ext cx="7704000" cy="581400"/>
            <a:chOff x="828720" y="5297400"/>
            <a:chExt cx="7704000" cy="581400"/>
          </a:xfrm>
        </p:grpSpPr>
        <p:sp>
          <p:nvSpPr>
            <p:cNvPr id="226" name="Line 49"/>
            <p:cNvSpPr/>
            <p:nvPr/>
          </p:nvSpPr>
          <p:spPr>
            <a:xfrm>
              <a:off x="828720" y="5829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sp>
          <p:nvSpPr>
            <p:cNvPr id="227" name="Text Box 50"/>
            <p:cNvSpPr/>
            <p:nvPr/>
          </p:nvSpPr>
          <p:spPr>
            <a:xfrm>
              <a:off x="1002960" y="52974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sp>
        <p:nvSpPr>
          <p:cNvPr id="228" name="TextBox 29"/>
          <p:cNvSpPr/>
          <p:nvPr/>
        </p:nvSpPr>
        <p:spPr>
          <a:xfrm>
            <a:off x="140328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不得抄袭。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29" name="TextBox 30"/>
          <p:cNvSpPr/>
          <p:nvPr/>
        </p:nvSpPr>
        <p:spPr>
          <a:xfrm>
            <a:off x="1332000" y="3141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前两份材料总字数不得少于</a:t>
            </a:r>
            <a:r>
              <a:rPr b="1" lang="en-US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0" name="TextBox 32"/>
          <p:cNvSpPr/>
          <p:nvPr/>
        </p:nvSpPr>
        <p:spPr>
          <a:xfrm>
            <a:off x="1332000" y="4221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材料电子版至班级</a:t>
            </a:r>
            <a:r>
              <a:rPr b="1" lang="en-US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群下载。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1" name="TextBox 33"/>
          <p:cNvSpPr/>
          <p:nvPr/>
        </p:nvSpPr>
        <p:spPr>
          <a:xfrm>
            <a:off x="1332000" y="5229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毕业论文答辩当天上交此三份材料。</a:t>
            </a:r>
            <a:endParaRPr b="0" lang="en-US" sz="28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2"/>
          <p:cNvSpPr/>
          <p:nvPr/>
        </p:nvSpPr>
        <p:spPr>
          <a:xfrm>
            <a:off x="3097080" y="241632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3" name="Oval 3"/>
          <p:cNvSpPr/>
          <p:nvPr/>
        </p:nvSpPr>
        <p:spPr>
          <a:xfrm>
            <a:off x="4240080" y="293040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4" name="Line 4"/>
          <p:cNvSpPr/>
          <p:nvPr/>
        </p:nvSpPr>
        <p:spPr>
          <a:xfrm flipV="1">
            <a:off x="2700360" y="3645000"/>
            <a:ext cx="244620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916360" y="2276640"/>
            <a:ext cx="2303280" cy="1152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6" name="Line 6"/>
          <p:cNvSpPr/>
          <p:nvPr/>
        </p:nvSpPr>
        <p:spPr>
          <a:xfrm flipH="1">
            <a:off x="2411280" y="3933720"/>
            <a:ext cx="2841840" cy="1224000"/>
          </a:xfrm>
          <a:prstGeom prst="line">
            <a:avLst/>
          </a:prstGeom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611680" y="4016520"/>
            <a:ext cx="2055960" cy="7808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5611680" y="2492280"/>
            <a:ext cx="1768680" cy="106704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4878360" y="332100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2021040" y="1484280"/>
            <a:ext cx="1172160" cy="1175040"/>
            <a:chOff x="2021040" y="1484280"/>
            <a:chExt cx="1172160" cy="1175040"/>
          </a:xfrm>
        </p:grpSpPr>
        <p:sp>
          <p:nvSpPr>
            <p:cNvPr id="241" name="Oval 12"/>
            <p:cNvSpPr/>
            <p:nvPr/>
          </p:nvSpPr>
          <p:spPr>
            <a:xfrm>
              <a:off x="2021040" y="148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242" name="Group 13"/>
            <p:cNvGrpSpPr/>
            <p:nvPr/>
          </p:nvGrpSpPr>
          <p:grpSpPr>
            <a:xfrm>
              <a:off x="2055960" y="1520640"/>
              <a:ext cx="1118160" cy="1138680"/>
              <a:chOff x="2055960" y="1520640"/>
              <a:chExt cx="1118160" cy="1138680"/>
            </a:xfrm>
          </p:grpSpPr>
          <p:pic>
            <p:nvPicPr>
              <p:cNvPr id="243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20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15"/>
              <p:cNvSpPr/>
              <p:nvPr/>
            </p:nvSpPr>
            <p:spPr>
              <a:xfrm>
                <a:off x="2055960" y="1520640"/>
                <a:ext cx="1079280" cy="108612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pic>
            <p:nvPicPr>
              <p:cNvPr id="245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066040" y="156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Group 17"/>
              <p:cNvGrpSpPr/>
              <p:nvPr/>
            </p:nvGrpSpPr>
            <p:grpSpPr>
              <a:xfrm>
                <a:off x="2405520" y="1958040"/>
                <a:ext cx="768600" cy="701280"/>
                <a:chOff x="2405520" y="1958040"/>
                <a:chExt cx="768600" cy="701280"/>
              </a:xfrm>
            </p:grpSpPr>
            <p:grpSp>
              <p:nvGrpSpPr>
                <p:cNvPr id="247" name="Group 18"/>
                <p:cNvGrpSpPr/>
                <p:nvPr/>
              </p:nvGrpSpPr>
              <p:grpSpPr>
                <a:xfrm>
                  <a:off x="2583000" y="1958040"/>
                  <a:ext cx="591120" cy="694440"/>
                  <a:chOff x="2583000" y="1958040"/>
                  <a:chExt cx="591120" cy="694440"/>
                </a:xfrm>
              </p:grpSpPr>
              <p:sp>
                <p:nvSpPr>
                  <p:cNvPr id="248" name="AutoShape 19"/>
                  <p:cNvSpPr/>
                  <p:nvPr/>
                </p:nvSpPr>
                <p:spPr>
                  <a:xfrm flipH="1" flipV="1" rot="1528800">
                    <a:off x="2912040" y="1959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49" name="AutoShape 20"/>
                  <p:cNvSpPr/>
                  <p:nvPr/>
                </p:nvSpPr>
                <p:spPr>
                  <a:xfrm flipH="1" flipV="1" rot="2344200">
                    <a:off x="2867040" y="2044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50" name="AutoShape 21"/>
                  <p:cNvSpPr/>
                  <p:nvPr/>
                </p:nvSpPr>
                <p:spPr>
                  <a:xfrm flipH="1" flipV="1" rot="2640000">
                    <a:off x="2830320" y="208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51" name="AutoShape 22"/>
                  <p:cNvSpPr/>
                  <p:nvPr/>
                </p:nvSpPr>
                <p:spPr>
                  <a:xfrm flipH="1" flipV="1" rot="3172200">
                    <a:off x="2785320" y="2133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  <p:grpSp>
              <p:nvGrpSpPr>
                <p:cNvPr id="252" name="Group 23"/>
                <p:cNvGrpSpPr/>
                <p:nvPr/>
              </p:nvGrpSpPr>
              <p:grpSpPr>
                <a:xfrm>
                  <a:off x="2405520" y="2149200"/>
                  <a:ext cx="743400" cy="510120"/>
                  <a:chOff x="2405520" y="2149200"/>
                  <a:chExt cx="743400" cy="510120"/>
                </a:xfrm>
              </p:grpSpPr>
              <p:sp>
                <p:nvSpPr>
                  <p:cNvPr id="253" name="AutoShape 24"/>
                  <p:cNvSpPr/>
                  <p:nvPr/>
                </p:nvSpPr>
                <p:spPr>
                  <a:xfrm flipH="1" flipV="1" rot="2881800">
                    <a:off x="2816280" y="2106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54" name="AutoShape 25"/>
                  <p:cNvSpPr/>
                  <p:nvPr/>
                </p:nvSpPr>
                <p:spPr>
                  <a:xfrm flipH="1" flipV="1" rot="3697200">
                    <a:off x="2742480" y="2167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55" name="AutoShape 26"/>
                  <p:cNvSpPr/>
                  <p:nvPr/>
                </p:nvSpPr>
                <p:spPr>
                  <a:xfrm flipH="1" flipV="1" rot="3993000">
                    <a:off x="2692440" y="2190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56" name="AutoShape 27"/>
                  <p:cNvSpPr/>
                  <p:nvPr/>
                </p:nvSpPr>
                <p:spPr>
                  <a:xfrm flipH="1" flipV="1" rot="4525200">
                    <a:off x="2631600" y="2217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</p:grpSp>
        </p:grpSp>
        <p:grpSp>
          <p:nvGrpSpPr>
            <p:cNvPr id="257" name="Group 28"/>
            <p:cNvGrpSpPr/>
            <p:nvPr/>
          </p:nvGrpSpPr>
          <p:grpSpPr>
            <a:xfrm>
              <a:off x="2516040" y="1991160"/>
              <a:ext cx="677160" cy="617760"/>
              <a:chOff x="2516040" y="1991160"/>
              <a:chExt cx="677160" cy="617760"/>
            </a:xfrm>
          </p:grpSpPr>
          <p:grpSp>
            <p:nvGrpSpPr>
              <p:cNvPr id="258" name="Group 29"/>
              <p:cNvGrpSpPr/>
              <p:nvPr/>
            </p:nvGrpSpPr>
            <p:grpSpPr>
              <a:xfrm>
                <a:off x="2672280" y="1991160"/>
                <a:ext cx="520920" cy="611280"/>
                <a:chOff x="2672280" y="1991160"/>
                <a:chExt cx="520920" cy="611280"/>
              </a:xfrm>
            </p:grpSpPr>
            <p:sp>
              <p:nvSpPr>
                <p:cNvPr id="259" name="AutoShape 30"/>
                <p:cNvSpPr/>
                <p:nvPr/>
              </p:nvSpPr>
              <p:spPr>
                <a:xfrm flipH="1" flipV="1" rot="1528800">
                  <a:off x="2962080" y="1992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0" name="AutoShape 31"/>
                <p:cNvSpPr/>
                <p:nvPr/>
              </p:nvSpPr>
              <p:spPr>
                <a:xfrm flipH="1" flipV="1" rot="2344200">
                  <a:off x="2922840" y="2067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1" name="AutoShape 32"/>
                <p:cNvSpPr/>
                <p:nvPr/>
              </p:nvSpPr>
              <p:spPr>
                <a:xfrm flipH="1" flipV="1" rot="2640000">
                  <a:off x="2890080" y="2103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2" name="AutoShape 33"/>
                <p:cNvSpPr/>
                <p:nvPr/>
              </p:nvSpPr>
              <p:spPr>
                <a:xfrm flipH="1" flipV="1" rot="3172200">
                  <a:off x="2849400" y="2145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263" name="Group 34"/>
              <p:cNvGrpSpPr/>
              <p:nvPr/>
            </p:nvGrpSpPr>
            <p:grpSpPr>
              <a:xfrm>
                <a:off x="2516040" y="2158920"/>
                <a:ext cx="654840" cy="450000"/>
                <a:chOff x="2516040" y="2158920"/>
                <a:chExt cx="654840" cy="450000"/>
              </a:xfrm>
            </p:grpSpPr>
            <p:sp>
              <p:nvSpPr>
                <p:cNvPr id="264" name="AutoShape 35"/>
                <p:cNvSpPr/>
                <p:nvPr/>
              </p:nvSpPr>
              <p:spPr>
                <a:xfrm flipH="1" flipV="1" rot="2881800">
                  <a:off x="2877120" y="2120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5" name="AutoShape 36"/>
                <p:cNvSpPr/>
                <p:nvPr/>
              </p:nvSpPr>
              <p:spPr>
                <a:xfrm flipH="1" flipV="1" rot="3697200">
                  <a:off x="2812320" y="2175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6" name="AutoShape 37"/>
                <p:cNvSpPr/>
                <p:nvPr/>
              </p:nvSpPr>
              <p:spPr>
                <a:xfrm flipH="1" flipV="1" rot="3993000">
                  <a:off x="2768400" y="2196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67" name="AutoShape 38"/>
                <p:cNvSpPr/>
                <p:nvPr/>
              </p:nvSpPr>
              <p:spPr>
                <a:xfrm flipH="1" flipV="1" rot="4525200">
                  <a:off x="2714400" y="2219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sp>
          <p:nvSpPr>
            <p:cNvPr id="268" name="Rectangle 39"/>
            <p:cNvSpPr/>
            <p:nvPr/>
          </p:nvSpPr>
          <p:spPr>
            <a:xfrm>
              <a:off x="2522520" y="17604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69" name="Group 40"/>
          <p:cNvGrpSpPr/>
          <p:nvPr/>
        </p:nvGrpSpPr>
        <p:grpSpPr>
          <a:xfrm>
            <a:off x="1835280" y="3068640"/>
            <a:ext cx="1172160" cy="1175040"/>
            <a:chOff x="1835280" y="3068640"/>
            <a:chExt cx="1172160" cy="1175040"/>
          </a:xfrm>
        </p:grpSpPr>
        <p:sp>
          <p:nvSpPr>
            <p:cNvPr id="270" name="Oval 41"/>
            <p:cNvSpPr/>
            <p:nvPr/>
          </p:nvSpPr>
          <p:spPr>
            <a:xfrm>
              <a:off x="1835280" y="306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271" name="Group 42"/>
            <p:cNvGrpSpPr/>
            <p:nvPr/>
          </p:nvGrpSpPr>
          <p:grpSpPr>
            <a:xfrm>
              <a:off x="1870200" y="3105000"/>
              <a:ext cx="1118160" cy="1138680"/>
              <a:chOff x="1870200" y="3105000"/>
              <a:chExt cx="1118160" cy="1138680"/>
            </a:xfrm>
          </p:grpSpPr>
          <p:pic>
            <p:nvPicPr>
              <p:cNvPr id="272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70200" y="3105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Oval 44"/>
              <p:cNvSpPr/>
              <p:nvPr/>
            </p:nvSpPr>
            <p:spPr>
              <a:xfrm>
                <a:off x="1870200" y="3105000"/>
                <a:ext cx="1079280" cy="108612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pic>
            <p:nvPicPr>
              <p:cNvPr id="274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80280" y="3150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5" name="Group 46"/>
              <p:cNvGrpSpPr/>
              <p:nvPr/>
            </p:nvGrpSpPr>
            <p:grpSpPr>
              <a:xfrm>
                <a:off x="2219760" y="3542400"/>
                <a:ext cx="768600" cy="701280"/>
                <a:chOff x="2219760" y="3542400"/>
                <a:chExt cx="768600" cy="701280"/>
              </a:xfrm>
            </p:grpSpPr>
            <p:grpSp>
              <p:nvGrpSpPr>
                <p:cNvPr id="276" name="Group 47"/>
                <p:cNvGrpSpPr/>
                <p:nvPr/>
              </p:nvGrpSpPr>
              <p:grpSpPr>
                <a:xfrm>
                  <a:off x="2397240" y="3542400"/>
                  <a:ext cx="591120" cy="694440"/>
                  <a:chOff x="2397240" y="3542400"/>
                  <a:chExt cx="591120" cy="694440"/>
                </a:xfrm>
              </p:grpSpPr>
              <p:sp>
                <p:nvSpPr>
                  <p:cNvPr id="277" name="AutoShape 48"/>
                  <p:cNvSpPr/>
                  <p:nvPr/>
                </p:nvSpPr>
                <p:spPr>
                  <a:xfrm flipH="1" flipV="1" rot="1528800">
                    <a:off x="2726280" y="3544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78" name="AutoShape 49"/>
                  <p:cNvSpPr/>
                  <p:nvPr/>
                </p:nvSpPr>
                <p:spPr>
                  <a:xfrm flipH="1" flipV="1" rot="2344200">
                    <a:off x="2681280" y="3629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79" name="AutoShape 50"/>
                  <p:cNvSpPr/>
                  <p:nvPr/>
                </p:nvSpPr>
                <p:spPr>
                  <a:xfrm flipH="1" flipV="1" rot="2640000">
                    <a:off x="2644560" y="3669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80" name="AutoShape 51"/>
                  <p:cNvSpPr/>
                  <p:nvPr/>
                </p:nvSpPr>
                <p:spPr>
                  <a:xfrm flipH="1" flipV="1" rot="3172200">
                    <a:off x="2599560" y="3718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  <p:grpSp>
              <p:nvGrpSpPr>
                <p:cNvPr id="281" name="Group 52"/>
                <p:cNvGrpSpPr/>
                <p:nvPr/>
              </p:nvGrpSpPr>
              <p:grpSpPr>
                <a:xfrm>
                  <a:off x="2219760" y="3733560"/>
                  <a:ext cx="743400" cy="510120"/>
                  <a:chOff x="2219760" y="3733560"/>
                  <a:chExt cx="743400" cy="510120"/>
                </a:xfrm>
              </p:grpSpPr>
              <p:sp>
                <p:nvSpPr>
                  <p:cNvPr id="282" name="AutoShape 53"/>
                  <p:cNvSpPr/>
                  <p:nvPr/>
                </p:nvSpPr>
                <p:spPr>
                  <a:xfrm flipH="1" flipV="1" rot="2881800">
                    <a:off x="2630520" y="3690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83" name="AutoShape 54"/>
                  <p:cNvSpPr/>
                  <p:nvPr/>
                </p:nvSpPr>
                <p:spPr>
                  <a:xfrm flipH="1" flipV="1" rot="3697200">
                    <a:off x="2556720" y="375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84" name="AutoShape 55"/>
                  <p:cNvSpPr/>
                  <p:nvPr/>
                </p:nvSpPr>
                <p:spPr>
                  <a:xfrm flipH="1" flipV="1" rot="3993000">
                    <a:off x="2506680" y="3775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285" name="AutoShape 56"/>
                  <p:cNvSpPr/>
                  <p:nvPr/>
                </p:nvSpPr>
                <p:spPr>
                  <a:xfrm flipH="1" flipV="1" rot="4525200">
                    <a:off x="2445840" y="3801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</p:grpSp>
        </p:grpSp>
        <p:grpSp>
          <p:nvGrpSpPr>
            <p:cNvPr id="286" name="Group 57"/>
            <p:cNvGrpSpPr/>
            <p:nvPr/>
          </p:nvGrpSpPr>
          <p:grpSpPr>
            <a:xfrm>
              <a:off x="2330280" y="3575520"/>
              <a:ext cx="677160" cy="617760"/>
              <a:chOff x="2330280" y="3575520"/>
              <a:chExt cx="677160" cy="617760"/>
            </a:xfrm>
          </p:grpSpPr>
          <p:grpSp>
            <p:nvGrpSpPr>
              <p:cNvPr id="287" name="Group 58"/>
              <p:cNvGrpSpPr/>
              <p:nvPr/>
            </p:nvGrpSpPr>
            <p:grpSpPr>
              <a:xfrm>
                <a:off x="2486520" y="3575520"/>
                <a:ext cx="520920" cy="611280"/>
                <a:chOff x="2486520" y="3575520"/>
                <a:chExt cx="520920" cy="611280"/>
              </a:xfrm>
            </p:grpSpPr>
            <p:sp>
              <p:nvSpPr>
                <p:cNvPr id="288" name="AutoShape 59"/>
                <p:cNvSpPr/>
                <p:nvPr/>
              </p:nvSpPr>
              <p:spPr>
                <a:xfrm flipH="1" flipV="1" rot="1528800">
                  <a:off x="2776320" y="3576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89" name="AutoShape 60"/>
                <p:cNvSpPr/>
                <p:nvPr/>
              </p:nvSpPr>
              <p:spPr>
                <a:xfrm flipH="1" flipV="1" rot="2344200">
                  <a:off x="2737080" y="3651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90" name="AutoShape 61"/>
                <p:cNvSpPr/>
                <p:nvPr/>
              </p:nvSpPr>
              <p:spPr>
                <a:xfrm flipH="1" flipV="1" rot="2640000">
                  <a:off x="2704320" y="3688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91" name="AutoShape 62"/>
                <p:cNvSpPr/>
                <p:nvPr/>
              </p:nvSpPr>
              <p:spPr>
                <a:xfrm flipH="1" flipV="1" rot="3172200">
                  <a:off x="2663640" y="3729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292" name="Group 63"/>
              <p:cNvGrpSpPr/>
              <p:nvPr/>
            </p:nvGrpSpPr>
            <p:grpSpPr>
              <a:xfrm>
                <a:off x="2330280" y="3743280"/>
                <a:ext cx="654840" cy="450000"/>
                <a:chOff x="2330280" y="3743280"/>
                <a:chExt cx="654840" cy="450000"/>
              </a:xfrm>
            </p:grpSpPr>
            <p:sp>
              <p:nvSpPr>
                <p:cNvPr id="293" name="AutoShape 64"/>
                <p:cNvSpPr/>
                <p:nvPr/>
              </p:nvSpPr>
              <p:spPr>
                <a:xfrm flipH="1" flipV="1" rot="2881800">
                  <a:off x="2691360" y="3704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94" name="AutoShape 65"/>
                <p:cNvSpPr/>
                <p:nvPr/>
              </p:nvSpPr>
              <p:spPr>
                <a:xfrm flipH="1" flipV="1" rot="3697200">
                  <a:off x="2626560" y="3759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95" name="AutoShape 66"/>
                <p:cNvSpPr/>
                <p:nvPr/>
              </p:nvSpPr>
              <p:spPr>
                <a:xfrm flipH="1" flipV="1" rot="3993000">
                  <a:off x="2582640" y="3780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296" name="AutoShape 67"/>
                <p:cNvSpPr/>
                <p:nvPr/>
              </p:nvSpPr>
              <p:spPr>
                <a:xfrm flipH="1" flipV="1" rot="4525200">
                  <a:off x="2528640" y="380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sp>
          <p:nvSpPr>
            <p:cNvPr id="297" name="Rectangle 68"/>
            <p:cNvSpPr/>
            <p:nvPr/>
          </p:nvSpPr>
          <p:spPr>
            <a:xfrm>
              <a:off x="2325600" y="3394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298" name="Group 69"/>
          <p:cNvGrpSpPr/>
          <p:nvPr/>
        </p:nvGrpSpPr>
        <p:grpSpPr>
          <a:xfrm>
            <a:off x="2021040" y="4653000"/>
            <a:ext cx="1172160" cy="1175040"/>
            <a:chOff x="2021040" y="4653000"/>
            <a:chExt cx="1172160" cy="1175040"/>
          </a:xfrm>
        </p:grpSpPr>
        <p:sp>
          <p:nvSpPr>
            <p:cNvPr id="299" name="Oval 70"/>
            <p:cNvSpPr/>
            <p:nvPr/>
          </p:nvSpPr>
          <p:spPr>
            <a:xfrm>
              <a:off x="202104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300" name="Group 71"/>
            <p:cNvGrpSpPr/>
            <p:nvPr/>
          </p:nvGrpSpPr>
          <p:grpSpPr>
            <a:xfrm>
              <a:off x="2055960" y="4689360"/>
              <a:ext cx="1118160" cy="1138680"/>
              <a:chOff x="2055960" y="4689360"/>
              <a:chExt cx="1118160" cy="1138680"/>
            </a:xfrm>
          </p:grpSpPr>
          <p:pic>
            <p:nvPicPr>
              <p:cNvPr id="301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689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Oval 73"/>
              <p:cNvSpPr/>
              <p:nvPr/>
            </p:nvSpPr>
            <p:spPr>
              <a:xfrm>
                <a:off x="2055960" y="4689360"/>
                <a:ext cx="1079280" cy="108612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pic>
            <p:nvPicPr>
              <p:cNvPr id="303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066040" y="4734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4" name="Group 75"/>
              <p:cNvGrpSpPr/>
              <p:nvPr/>
            </p:nvGrpSpPr>
            <p:grpSpPr>
              <a:xfrm>
                <a:off x="2405520" y="5126760"/>
                <a:ext cx="768600" cy="701280"/>
                <a:chOff x="2405520" y="5126760"/>
                <a:chExt cx="768600" cy="701280"/>
              </a:xfrm>
            </p:grpSpPr>
            <p:grpSp>
              <p:nvGrpSpPr>
                <p:cNvPr id="305" name="Group 76"/>
                <p:cNvGrpSpPr/>
                <p:nvPr/>
              </p:nvGrpSpPr>
              <p:grpSpPr>
                <a:xfrm>
                  <a:off x="2583000" y="5126760"/>
                  <a:ext cx="591120" cy="694440"/>
                  <a:chOff x="2583000" y="5126760"/>
                  <a:chExt cx="591120" cy="694440"/>
                </a:xfrm>
              </p:grpSpPr>
              <p:sp>
                <p:nvSpPr>
                  <p:cNvPr id="306" name="AutoShape 77"/>
                  <p:cNvSpPr/>
                  <p:nvPr/>
                </p:nvSpPr>
                <p:spPr>
                  <a:xfrm flipH="1" flipV="1" rot="1528800">
                    <a:off x="2912040" y="5128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07" name="AutoShape 78"/>
                  <p:cNvSpPr/>
                  <p:nvPr/>
                </p:nvSpPr>
                <p:spPr>
                  <a:xfrm flipH="1" flipV="1" rot="2344200">
                    <a:off x="2867040" y="5213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08" name="AutoShape 79"/>
                  <p:cNvSpPr/>
                  <p:nvPr/>
                </p:nvSpPr>
                <p:spPr>
                  <a:xfrm flipH="1" flipV="1" rot="2640000">
                    <a:off x="2830320" y="5254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09" name="AutoShape 80"/>
                  <p:cNvSpPr/>
                  <p:nvPr/>
                </p:nvSpPr>
                <p:spPr>
                  <a:xfrm flipH="1" flipV="1" rot="3172200">
                    <a:off x="2785320" y="5302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  <p:grpSp>
              <p:nvGrpSpPr>
                <p:cNvPr id="310" name="Group 81"/>
                <p:cNvGrpSpPr/>
                <p:nvPr/>
              </p:nvGrpSpPr>
              <p:grpSpPr>
                <a:xfrm>
                  <a:off x="2405520" y="5317920"/>
                  <a:ext cx="743400" cy="510120"/>
                  <a:chOff x="2405520" y="5317920"/>
                  <a:chExt cx="743400" cy="510120"/>
                </a:xfrm>
              </p:grpSpPr>
              <p:sp>
                <p:nvSpPr>
                  <p:cNvPr id="311" name="AutoShape 82"/>
                  <p:cNvSpPr/>
                  <p:nvPr/>
                </p:nvSpPr>
                <p:spPr>
                  <a:xfrm flipH="1" flipV="1" rot="2881800">
                    <a:off x="2816280" y="5274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12" name="AutoShape 83"/>
                  <p:cNvSpPr/>
                  <p:nvPr/>
                </p:nvSpPr>
                <p:spPr>
                  <a:xfrm flipH="1" flipV="1" rot="3697200">
                    <a:off x="2742480" y="5336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13" name="AutoShape 84"/>
                  <p:cNvSpPr/>
                  <p:nvPr/>
                </p:nvSpPr>
                <p:spPr>
                  <a:xfrm flipH="1" flipV="1" rot="3993000">
                    <a:off x="2692440" y="5359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14" name="AutoShape 85"/>
                  <p:cNvSpPr/>
                  <p:nvPr/>
                </p:nvSpPr>
                <p:spPr>
                  <a:xfrm flipH="1" flipV="1" rot="4525200">
                    <a:off x="2631600" y="5385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</p:grpSp>
        </p:grpSp>
        <p:grpSp>
          <p:nvGrpSpPr>
            <p:cNvPr id="315" name="Group 86"/>
            <p:cNvGrpSpPr/>
            <p:nvPr/>
          </p:nvGrpSpPr>
          <p:grpSpPr>
            <a:xfrm>
              <a:off x="2516040" y="5159880"/>
              <a:ext cx="677160" cy="617760"/>
              <a:chOff x="2516040" y="5159880"/>
              <a:chExt cx="677160" cy="617760"/>
            </a:xfrm>
          </p:grpSpPr>
          <p:grpSp>
            <p:nvGrpSpPr>
              <p:cNvPr id="316" name="Group 87"/>
              <p:cNvGrpSpPr/>
              <p:nvPr/>
            </p:nvGrpSpPr>
            <p:grpSpPr>
              <a:xfrm>
                <a:off x="2672280" y="5159880"/>
                <a:ext cx="520920" cy="611280"/>
                <a:chOff x="2672280" y="5159880"/>
                <a:chExt cx="520920" cy="611280"/>
              </a:xfrm>
            </p:grpSpPr>
            <p:sp>
              <p:nvSpPr>
                <p:cNvPr id="317" name="AutoShape 88"/>
                <p:cNvSpPr/>
                <p:nvPr/>
              </p:nvSpPr>
              <p:spPr>
                <a:xfrm flipH="1" flipV="1" rot="1528800">
                  <a:off x="2962080" y="5161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18" name="AutoShape 89"/>
                <p:cNvSpPr/>
                <p:nvPr/>
              </p:nvSpPr>
              <p:spPr>
                <a:xfrm flipH="1" flipV="1" rot="2344200">
                  <a:off x="2922840" y="5236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19" name="AutoShape 90"/>
                <p:cNvSpPr/>
                <p:nvPr/>
              </p:nvSpPr>
              <p:spPr>
                <a:xfrm flipH="1" flipV="1" rot="2640000">
                  <a:off x="2890080" y="5272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20" name="AutoShape 91"/>
                <p:cNvSpPr/>
                <p:nvPr/>
              </p:nvSpPr>
              <p:spPr>
                <a:xfrm flipH="1" flipV="1" rot="3172200">
                  <a:off x="2849400" y="5314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321" name="Group 92"/>
              <p:cNvGrpSpPr/>
              <p:nvPr/>
            </p:nvGrpSpPr>
            <p:grpSpPr>
              <a:xfrm>
                <a:off x="2516040" y="5327640"/>
                <a:ext cx="654840" cy="450000"/>
                <a:chOff x="2516040" y="5327640"/>
                <a:chExt cx="654840" cy="450000"/>
              </a:xfrm>
            </p:grpSpPr>
            <p:sp>
              <p:nvSpPr>
                <p:cNvPr id="322" name="AutoShape 93"/>
                <p:cNvSpPr/>
                <p:nvPr/>
              </p:nvSpPr>
              <p:spPr>
                <a:xfrm flipH="1" flipV="1" rot="2881800">
                  <a:off x="2877120" y="5289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23" name="AutoShape 94"/>
                <p:cNvSpPr/>
                <p:nvPr/>
              </p:nvSpPr>
              <p:spPr>
                <a:xfrm flipH="1" flipV="1" rot="3697200">
                  <a:off x="2812320" y="5343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24" name="AutoShape 95"/>
                <p:cNvSpPr/>
                <p:nvPr/>
              </p:nvSpPr>
              <p:spPr>
                <a:xfrm flipH="1" flipV="1" rot="3993000">
                  <a:off x="2768400" y="5365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25" name="AutoShape 96"/>
                <p:cNvSpPr/>
                <p:nvPr/>
              </p:nvSpPr>
              <p:spPr>
                <a:xfrm flipH="1" flipV="1" rot="4525200">
                  <a:off x="2714400" y="5387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sp>
          <p:nvSpPr>
            <p:cNvPr id="326" name="Rectangle 97"/>
            <p:cNvSpPr/>
            <p:nvPr/>
          </p:nvSpPr>
          <p:spPr>
            <a:xfrm>
              <a:off x="2533680" y="49039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</p:grpSp>
      <p:grpSp>
        <p:nvGrpSpPr>
          <p:cNvPr id="327" name="Group 98"/>
          <p:cNvGrpSpPr/>
          <p:nvPr/>
        </p:nvGrpSpPr>
        <p:grpSpPr>
          <a:xfrm>
            <a:off x="7596360" y="4221000"/>
            <a:ext cx="1172160" cy="1175040"/>
            <a:chOff x="7596360" y="4221000"/>
            <a:chExt cx="1172160" cy="1175040"/>
          </a:xfrm>
        </p:grpSpPr>
        <p:sp>
          <p:nvSpPr>
            <p:cNvPr id="328" name="Oval 99"/>
            <p:cNvSpPr/>
            <p:nvPr/>
          </p:nvSpPr>
          <p:spPr>
            <a:xfrm>
              <a:off x="7596360" y="4221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329" name="Group 100"/>
            <p:cNvGrpSpPr/>
            <p:nvPr/>
          </p:nvGrpSpPr>
          <p:grpSpPr>
            <a:xfrm>
              <a:off x="7631280" y="4257360"/>
              <a:ext cx="1118160" cy="1138680"/>
              <a:chOff x="7631280" y="4257360"/>
              <a:chExt cx="1118160" cy="1138680"/>
            </a:xfrm>
          </p:grpSpPr>
          <p:pic>
            <p:nvPicPr>
              <p:cNvPr id="330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7631280" y="4257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Oval 102"/>
              <p:cNvSpPr/>
              <p:nvPr/>
            </p:nvSpPr>
            <p:spPr>
              <a:xfrm>
                <a:off x="7631280" y="4257360"/>
                <a:ext cx="1079280" cy="108612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pic>
            <p:nvPicPr>
              <p:cNvPr id="332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7641360" y="4302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Group 104"/>
              <p:cNvGrpSpPr/>
              <p:nvPr/>
            </p:nvGrpSpPr>
            <p:grpSpPr>
              <a:xfrm>
                <a:off x="7980840" y="4694760"/>
                <a:ext cx="768600" cy="701280"/>
                <a:chOff x="7980840" y="4694760"/>
                <a:chExt cx="768600" cy="701280"/>
              </a:xfrm>
            </p:grpSpPr>
            <p:grpSp>
              <p:nvGrpSpPr>
                <p:cNvPr id="334" name="Group 105"/>
                <p:cNvGrpSpPr/>
                <p:nvPr/>
              </p:nvGrpSpPr>
              <p:grpSpPr>
                <a:xfrm>
                  <a:off x="8158320" y="4694760"/>
                  <a:ext cx="591120" cy="694440"/>
                  <a:chOff x="8158320" y="4694760"/>
                  <a:chExt cx="591120" cy="694440"/>
                </a:xfrm>
              </p:grpSpPr>
              <p:sp>
                <p:nvSpPr>
                  <p:cNvPr id="335" name="AutoShape 106"/>
                  <p:cNvSpPr/>
                  <p:nvPr/>
                </p:nvSpPr>
                <p:spPr>
                  <a:xfrm flipH="1" flipV="1" rot="1528800">
                    <a:off x="8487360" y="4696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36" name="AutoShape 107"/>
                  <p:cNvSpPr/>
                  <p:nvPr/>
                </p:nvSpPr>
                <p:spPr>
                  <a:xfrm flipH="1" flipV="1" rot="2344200">
                    <a:off x="8442360" y="4781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37" name="AutoShape 108"/>
                  <p:cNvSpPr/>
                  <p:nvPr/>
                </p:nvSpPr>
                <p:spPr>
                  <a:xfrm flipH="1" flipV="1" rot="2640000">
                    <a:off x="8405640" y="4822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38" name="AutoShape 109"/>
                  <p:cNvSpPr/>
                  <p:nvPr/>
                </p:nvSpPr>
                <p:spPr>
                  <a:xfrm flipH="1" flipV="1" rot="3172200">
                    <a:off x="8360640" y="4870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  <p:grpSp>
              <p:nvGrpSpPr>
                <p:cNvPr id="339" name="Group 110"/>
                <p:cNvGrpSpPr/>
                <p:nvPr/>
              </p:nvGrpSpPr>
              <p:grpSpPr>
                <a:xfrm>
                  <a:off x="7980840" y="4885920"/>
                  <a:ext cx="743400" cy="510120"/>
                  <a:chOff x="7980840" y="4885920"/>
                  <a:chExt cx="743400" cy="510120"/>
                </a:xfrm>
              </p:grpSpPr>
              <p:sp>
                <p:nvSpPr>
                  <p:cNvPr id="340" name="AutoShape 111"/>
                  <p:cNvSpPr/>
                  <p:nvPr/>
                </p:nvSpPr>
                <p:spPr>
                  <a:xfrm flipH="1" flipV="1" rot="2881800">
                    <a:off x="8391600" y="4842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41" name="AutoShape 112"/>
                  <p:cNvSpPr/>
                  <p:nvPr/>
                </p:nvSpPr>
                <p:spPr>
                  <a:xfrm flipH="1" flipV="1" rot="3697200">
                    <a:off x="8317800" y="4904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42" name="AutoShape 113"/>
                  <p:cNvSpPr/>
                  <p:nvPr/>
                </p:nvSpPr>
                <p:spPr>
                  <a:xfrm flipH="1" flipV="1" rot="3993000">
                    <a:off x="8267760" y="4927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43" name="AutoShape 114"/>
                  <p:cNvSpPr/>
                  <p:nvPr/>
                </p:nvSpPr>
                <p:spPr>
                  <a:xfrm flipH="1" flipV="1" rot="4525200">
                    <a:off x="8206920" y="4953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</p:grpSp>
        </p:grpSp>
        <p:grpSp>
          <p:nvGrpSpPr>
            <p:cNvPr id="344" name="Group 115"/>
            <p:cNvGrpSpPr/>
            <p:nvPr/>
          </p:nvGrpSpPr>
          <p:grpSpPr>
            <a:xfrm>
              <a:off x="8091360" y="4727880"/>
              <a:ext cx="677160" cy="617760"/>
              <a:chOff x="8091360" y="4727880"/>
              <a:chExt cx="677160" cy="617760"/>
            </a:xfrm>
          </p:grpSpPr>
          <p:grpSp>
            <p:nvGrpSpPr>
              <p:cNvPr id="345" name="Group 116"/>
              <p:cNvGrpSpPr/>
              <p:nvPr/>
            </p:nvGrpSpPr>
            <p:grpSpPr>
              <a:xfrm>
                <a:off x="8247600" y="4727880"/>
                <a:ext cx="520920" cy="611280"/>
                <a:chOff x="8247600" y="4727880"/>
                <a:chExt cx="520920" cy="611280"/>
              </a:xfrm>
            </p:grpSpPr>
            <p:sp>
              <p:nvSpPr>
                <p:cNvPr id="346" name="AutoShape 117"/>
                <p:cNvSpPr/>
                <p:nvPr/>
              </p:nvSpPr>
              <p:spPr>
                <a:xfrm flipH="1" flipV="1" rot="1528800">
                  <a:off x="8537400" y="4729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47" name="AutoShape 118"/>
                <p:cNvSpPr/>
                <p:nvPr/>
              </p:nvSpPr>
              <p:spPr>
                <a:xfrm flipH="1" flipV="1" rot="2344200">
                  <a:off x="8498160" y="4804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48" name="AutoShape 119"/>
                <p:cNvSpPr/>
                <p:nvPr/>
              </p:nvSpPr>
              <p:spPr>
                <a:xfrm flipH="1" flipV="1" rot="2640000">
                  <a:off x="8465400" y="48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49" name="AutoShape 120"/>
                <p:cNvSpPr/>
                <p:nvPr/>
              </p:nvSpPr>
              <p:spPr>
                <a:xfrm flipH="1" flipV="1" rot="3172200">
                  <a:off x="8424720" y="4882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350" name="Group 121"/>
              <p:cNvGrpSpPr/>
              <p:nvPr/>
            </p:nvGrpSpPr>
            <p:grpSpPr>
              <a:xfrm>
                <a:off x="8091360" y="4895640"/>
                <a:ext cx="654840" cy="450000"/>
                <a:chOff x="8091360" y="4895640"/>
                <a:chExt cx="654840" cy="450000"/>
              </a:xfrm>
            </p:grpSpPr>
            <p:sp>
              <p:nvSpPr>
                <p:cNvPr id="351" name="AutoShape 122"/>
                <p:cNvSpPr/>
                <p:nvPr/>
              </p:nvSpPr>
              <p:spPr>
                <a:xfrm flipH="1" flipV="1" rot="2881800">
                  <a:off x="8452440" y="4857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52" name="AutoShape 123"/>
                <p:cNvSpPr/>
                <p:nvPr/>
              </p:nvSpPr>
              <p:spPr>
                <a:xfrm flipH="1" flipV="1" rot="3697200">
                  <a:off x="8387640" y="4911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53" name="AutoShape 124"/>
                <p:cNvSpPr/>
                <p:nvPr/>
              </p:nvSpPr>
              <p:spPr>
                <a:xfrm flipH="1" flipV="1" rot="3993000">
                  <a:off x="8343720" y="4933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54" name="AutoShape 125"/>
                <p:cNvSpPr/>
                <p:nvPr/>
              </p:nvSpPr>
              <p:spPr>
                <a:xfrm flipH="1" flipV="1" rot="4525200">
                  <a:off x="8289720" y="4955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</p:grpSp>
      <p:grpSp>
        <p:nvGrpSpPr>
          <p:cNvPr id="355" name="Group 127"/>
          <p:cNvGrpSpPr/>
          <p:nvPr/>
        </p:nvGrpSpPr>
        <p:grpSpPr>
          <a:xfrm>
            <a:off x="7093080" y="1773360"/>
            <a:ext cx="1172160" cy="1175040"/>
            <a:chOff x="7093080" y="1773360"/>
            <a:chExt cx="1172160" cy="1175040"/>
          </a:xfrm>
        </p:grpSpPr>
        <p:sp>
          <p:nvSpPr>
            <p:cNvPr id="356" name="Oval 128"/>
            <p:cNvSpPr/>
            <p:nvPr/>
          </p:nvSpPr>
          <p:spPr>
            <a:xfrm>
              <a:off x="7093080" y="1773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357" name="Group 129"/>
            <p:cNvGrpSpPr/>
            <p:nvPr/>
          </p:nvGrpSpPr>
          <p:grpSpPr>
            <a:xfrm>
              <a:off x="7128000" y="1809720"/>
              <a:ext cx="1118160" cy="1138680"/>
              <a:chOff x="7128000" y="1809720"/>
              <a:chExt cx="1118160" cy="1138680"/>
            </a:xfrm>
          </p:grpSpPr>
          <p:pic>
            <p:nvPicPr>
              <p:cNvPr id="358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128000" y="1809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Oval 131"/>
              <p:cNvSpPr/>
              <p:nvPr/>
            </p:nvSpPr>
            <p:spPr>
              <a:xfrm>
                <a:off x="7128000" y="1809720"/>
                <a:ext cx="1079280" cy="108612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pic>
            <p:nvPicPr>
              <p:cNvPr id="360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7138080" y="1854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1" name="Group 133"/>
              <p:cNvGrpSpPr/>
              <p:nvPr/>
            </p:nvGrpSpPr>
            <p:grpSpPr>
              <a:xfrm>
                <a:off x="7477560" y="2247120"/>
                <a:ext cx="768600" cy="701280"/>
                <a:chOff x="7477560" y="2247120"/>
                <a:chExt cx="768600" cy="701280"/>
              </a:xfrm>
            </p:grpSpPr>
            <p:grpSp>
              <p:nvGrpSpPr>
                <p:cNvPr id="362" name="Group 134"/>
                <p:cNvGrpSpPr/>
                <p:nvPr/>
              </p:nvGrpSpPr>
              <p:grpSpPr>
                <a:xfrm>
                  <a:off x="7655040" y="2247120"/>
                  <a:ext cx="591120" cy="694440"/>
                  <a:chOff x="7655040" y="2247120"/>
                  <a:chExt cx="591120" cy="694440"/>
                </a:xfrm>
              </p:grpSpPr>
              <p:sp>
                <p:nvSpPr>
                  <p:cNvPr id="363" name="AutoShape 135"/>
                  <p:cNvSpPr/>
                  <p:nvPr/>
                </p:nvSpPr>
                <p:spPr>
                  <a:xfrm flipH="1" flipV="1" rot="1528800">
                    <a:off x="7984080" y="2248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64" name="AutoShape 136"/>
                  <p:cNvSpPr/>
                  <p:nvPr/>
                </p:nvSpPr>
                <p:spPr>
                  <a:xfrm flipH="1" flipV="1" rot="2344200">
                    <a:off x="7939080" y="2333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65" name="AutoShape 137"/>
                  <p:cNvSpPr/>
                  <p:nvPr/>
                </p:nvSpPr>
                <p:spPr>
                  <a:xfrm flipH="1" flipV="1" rot="2640000">
                    <a:off x="7902360" y="2374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66" name="AutoShape 138"/>
                  <p:cNvSpPr/>
                  <p:nvPr/>
                </p:nvSpPr>
                <p:spPr>
                  <a:xfrm flipH="1" flipV="1" rot="3172200">
                    <a:off x="7857360" y="2422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  <p:grpSp>
              <p:nvGrpSpPr>
                <p:cNvPr id="367" name="Group 139"/>
                <p:cNvGrpSpPr/>
                <p:nvPr/>
              </p:nvGrpSpPr>
              <p:grpSpPr>
                <a:xfrm>
                  <a:off x="7477560" y="2438280"/>
                  <a:ext cx="743400" cy="510120"/>
                  <a:chOff x="7477560" y="2438280"/>
                  <a:chExt cx="743400" cy="510120"/>
                </a:xfrm>
              </p:grpSpPr>
              <p:sp>
                <p:nvSpPr>
                  <p:cNvPr id="368" name="AutoShape 140"/>
                  <p:cNvSpPr/>
                  <p:nvPr/>
                </p:nvSpPr>
                <p:spPr>
                  <a:xfrm flipH="1" flipV="1" rot="2881800">
                    <a:off x="7888320" y="2395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69" name="AutoShape 141"/>
                  <p:cNvSpPr/>
                  <p:nvPr/>
                </p:nvSpPr>
                <p:spPr>
                  <a:xfrm flipH="1" flipV="1" rot="3697200">
                    <a:off x="7814520" y="2456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70" name="AutoShape 142"/>
                  <p:cNvSpPr/>
                  <p:nvPr/>
                </p:nvSpPr>
                <p:spPr>
                  <a:xfrm flipH="1" flipV="1" rot="3993000">
                    <a:off x="7764480" y="2480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  <p:sp>
                <p:nvSpPr>
                  <p:cNvPr id="371" name="AutoShape 143"/>
                  <p:cNvSpPr/>
                  <p:nvPr/>
                </p:nvSpPr>
                <p:spPr>
                  <a:xfrm flipH="1" flipV="1" rot="4525200">
                    <a:off x="7703640" y="2506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HY얕은샘물M"/>
                    </a:endParaRPr>
                  </a:p>
                </p:txBody>
              </p:sp>
            </p:grpSp>
          </p:grpSp>
        </p:grpSp>
        <p:grpSp>
          <p:nvGrpSpPr>
            <p:cNvPr id="372" name="Group 144"/>
            <p:cNvGrpSpPr/>
            <p:nvPr/>
          </p:nvGrpSpPr>
          <p:grpSpPr>
            <a:xfrm>
              <a:off x="7588080" y="2280240"/>
              <a:ext cx="677160" cy="617760"/>
              <a:chOff x="7588080" y="2280240"/>
              <a:chExt cx="677160" cy="617760"/>
            </a:xfrm>
          </p:grpSpPr>
          <p:grpSp>
            <p:nvGrpSpPr>
              <p:cNvPr id="373" name="Group 145"/>
              <p:cNvGrpSpPr/>
              <p:nvPr/>
            </p:nvGrpSpPr>
            <p:grpSpPr>
              <a:xfrm>
                <a:off x="7744320" y="2280240"/>
                <a:ext cx="520920" cy="611280"/>
                <a:chOff x="7744320" y="2280240"/>
                <a:chExt cx="520920" cy="611280"/>
              </a:xfrm>
            </p:grpSpPr>
            <p:sp>
              <p:nvSpPr>
                <p:cNvPr id="374" name="AutoShape 146"/>
                <p:cNvSpPr/>
                <p:nvPr/>
              </p:nvSpPr>
              <p:spPr>
                <a:xfrm flipH="1" flipV="1" rot="1528800">
                  <a:off x="8034120" y="2281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75" name="AutoShape 147"/>
                <p:cNvSpPr/>
                <p:nvPr/>
              </p:nvSpPr>
              <p:spPr>
                <a:xfrm flipH="1" flipV="1" rot="2344200">
                  <a:off x="7994880" y="2356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76" name="AutoShape 148"/>
                <p:cNvSpPr/>
                <p:nvPr/>
              </p:nvSpPr>
              <p:spPr>
                <a:xfrm flipH="1" flipV="1" rot="2640000">
                  <a:off x="7962120" y="2392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77" name="AutoShape 149"/>
                <p:cNvSpPr/>
                <p:nvPr/>
              </p:nvSpPr>
              <p:spPr>
                <a:xfrm flipH="1" flipV="1" rot="3172200">
                  <a:off x="7921440" y="2434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378" name="Group 150"/>
              <p:cNvGrpSpPr/>
              <p:nvPr/>
            </p:nvGrpSpPr>
            <p:grpSpPr>
              <a:xfrm>
                <a:off x="7588080" y="2448000"/>
                <a:ext cx="654840" cy="450000"/>
                <a:chOff x="7588080" y="2448000"/>
                <a:chExt cx="654840" cy="450000"/>
              </a:xfrm>
            </p:grpSpPr>
            <p:sp>
              <p:nvSpPr>
                <p:cNvPr id="379" name="AutoShape 151"/>
                <p:cNvSpPr/>
                <p:nvPr/>
              </p:nvSpPr>
              <p:spPr>
                <a:xfrm flipH="1" flipV="1" rot="2881800">
                  <a:off x="7949160" y="2409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80" name="AutoShape 152"/>
                <p:cNvSpPr/>
                <p:nvPr/>
              </p:nvSpPr>
              <p:spPr>
                <a:xfrm flipH="1" flipV="1" rot="3697200">
                  <a:off x="7884360" y="2464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81" name="AutoShape 153"/>
                <p:cNvSpPr/>
                <p:nvPr/>
              </p:nvSpPr>
              <p:spPr>
                <a:xfrm flipH="1" flipV="1" rot="3993000">
                  <a:off x="7840440" y="248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82" name="AutoShape 154"/>
                <p:cNvSpPr/>
                <p:nvPr/>
              </p:nvSpPr>
              <p:spPr>
                <a:xfrm flipH="1" flipV="1" rot="4525200">
                  <a:off x="7786440" y="2508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</p:grpSp>
      <p:grpSp>
        <p:nvGrpSpPr>
          <p:cNvPr id="383" name="Group 156"/>
          <p:cNvGrpSpPr/>
          <p:nvPr/>
        </p:nvGrpSpPr>
        <p:grpSpPr>
          <a:xfrm>
            <a:off x="4987800" y="3397320"/>
            <a:ext cx="829440" cy="845280"/>
            <a:chOff x="4987800" y="3397320"/>
            <a:chExt cx="829440" cy="845280"/>
          </a:xfrm>
        </p:grpSpPr>
        <p:pic>
          <p:nvPicPr>
            <p:cNvPr id="384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5110920" y="3530520"/>
              <a:ext cx="574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Oval 158"/>
            <p:cNvSpPr/>
            <p:nvPr/>
          </p:nvSpPr>
          <p:spPr>
            <a:xfrm rot="4977000">
              <a:off x="5112360" y="352872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grpSp>
          <p:nvGrpSpPr>
            <p:cNvPr id="386" name="Group 159"/>
            <p:cNvGrpSpPr/>
            <p:nvPr/>
          </p:nvGrpSpPr>
          <p:grpSpPr>
            <a:xfrm>
              <a:off x="5092200" y="3591360"/>
              <a:ext cx="225360" cy="500040"/>
              <a:chOff x="5092200" y="3591360"/>
              <a:chExt cx="225360" cy="500040"/>
            </a:xfrm>
          </p:grpSpPr>
          <p:grpSp>
            <p:nvGrpSpPr>
              <p:cNvPr id="387" name="Group 160"/>
              <p:cNvGrpSpPr/>
              <p:nvPr/>
            </p:nvGrpSpPr>
            <p:grpSpPr>
              <a:xfrm>
                <a:off x="5097600" y="3684240"/>
                <a:ext cx="219960" cy="407160"/>
                <a:chOff x="5097600" y="3684240"/>
                <a:chExt cx="219960" cy="407160"/>
              </a:xfrm>
            </p:grpSpPr>
            <p:sp>
              <p:nvSpPr>
                <p:cNvPr id="388" name="AutoShape 161"/>
                <p:cNvSpPr/>
                <p:nvPr/>
              </p:nvSpPr>
              <p:spPr>
                <a:xfrm flipH="1" flipV="1" rot="8941800">
                  <a:off x="5169600" y="3790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89" name="AutoShape 162"/>
                <p:cNvSpPr/>
                <p:nvPr/>
              </p:nvSpPr>
              <p:spPr>
                <a:xfrm flipH="1" flipV="1" rot="9757200">
                  <a:off x="5145480" y="37476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90" name="AutoShape 163"/>
                <p:cNvSpPr/>
                <p:nvPr/>
              </p:nvSpPr>
              <p:spPr>
                <a:xfrm flipH="1" flipV="1" rot="10053000">
                  <a:off x="5138640" y="3719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91" name="AutoShape 164"/>
                <p:cNvSpPr/>
                <p:nvPr/>
              </p:nvSpPr>
              <p:spPr>
                <a:xfrm flipH="1" flipV="1" rot="10585200">
                  <a:off x="5131800" y="36860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392" name="Group 165"/>
              <p:cNvGrpSpPr/>
              <p:nvPr/>
            </p:nvGrpSpPr>
            <p:grpSpPr>
              <a:xfrm>
                <a:off x="5092200" y="3591360"/>
                <a:ext cx="169200" cy="422280"/>
                <a:chOff x="5092200" y="3591360"/>
                <a:chExt cx="169200" cy="422280"/>
              </a:xfrm>
            </p:grpSpPr>
            <p:sp>
              <p:nvSpPr>
                <p:cNvPr id="393" name="AutoShape 166"/>
                <p:cNvSpPr/>
                <p:nvPr/>
              </p:nvSpPr>
              <p:spPr>
                <a:xfrm flipH="1" flipV="1" rot="10294800">
                  <a:off x="5133240" y="3707280"/>
                  <a:ext cx="7524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94" name="AutoShape 167"/>
                <p:cNvSpPr/>
                <p:nvPr/>
              </p:nvSpPr>
              <p:spPr>
                <a:xfrm flipH="1" flipV="1" rot="11110200">
                  <a:off x="5128560" y="36579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95" name="AutoShape 168"/>
                <p:cNvSpPr/>
                <p:nvPr/>
              </p:nvSpPr>
              <p:spPr>
                <a:xfrm flipH="1" flipV="1" rot="11406000">
                  <a:off x="5132520" y="362952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396" name="AutoShape 169"/>
                <p:cNvSpPr/>
                <p:nvPr/>
              </p:nvSpPr>
              <p:spPr>
                <a:xfrm flipH="1" flipV="1" rot="11938200">
                  <a:off x="5139000" y="359496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sp>
          <p:nvSpPr>
            <p:cNvPr id="397" name="Arc 170"/>
            <p:cNvSpPr/>
            <p:nvPr/>
          </p:nvSpPr>
          <p:spPr>
            <a:xfrm flipH="1" rot="1129200">
              <a:off x="5078880" y="3483720"/>
              <a:ext cx="646920" cy="67248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480"/>
                <a:gd name="textAreaBottom" fmla="*/ 672480 h 67248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HY얕은샘물M"/>
              </a:endParaRPr>
            </a:p>
          </p:txBody>
        </p:sp>
        <p:pic>
          <p:nvPicPr>
            <p:cNvPr id="398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5267880" y="356076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TextBox 172"/>
          <p:cNvSpPr/>
          <p:nvPr/>
        </p:nvSpPr>
        <p:spPr>
          <a:xfrm>
            <a:off x="971640" y="54936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论文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0" name="TextBox 173"/>
          <p:cNvSpPr/>
          <p:nvPr/>
        </p:nvSpPr>
        <p:spPr>
          <a:xfrm>
            <a:off x="1979640" y="1700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1" name="TextBox 174"/>
          <p:cNvSpPr/>
          <p:nvPr/>
        </p:nvSpPr>
        <p:spPr>
          <a:xfrm>
            <a:off x="183528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资料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2" name="TextBox 175"/>
          <p:cNvSpPr/>
          <p:nvPr/>
        </p:nvSpPr>
        <p:spPr>
          <a:xfrm>
            <a:off x="1979640" y="4941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3" name="TextBox 176"/>
          <p:cNvSpPr/>
          <p:nvPr/>
        </p:nvSpPr>
        <p:spPr>
          <a:xfrm>
            <a:off x="716436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撰写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4" name="TextBox 177"/>
          <p:cNvSpPr/>
          <p:nvPr/>
        </p:nvSpPr>
        <p:spPr>
          <a:xfrm>
            <a:off x="7631280" y="4581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修改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5" name="TextBox 178"/>
          <p:cNvSpPr/>
          <p:nvPr/>
        </p:nvSpPr>
        <p:spPr>
          <a:xfrm>
            <a:off x="4932360" y="342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HY얕은샘물M"/>
                <a:ea typeface="HY얕은샘물M"/>
              </a:rPr>
              <a:t>答辩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좋은 귀염둥이빼로"/>
                <a:ea typeface="좋은 귀염둥이빼로"/>
              </a:rPr>
              <a:t>选题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8" name="Line 20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410" name="Group 43"/>
          <p:cNvGrpSpPr/>
          <p:nvPr/>
        </p:nvGrpSpPr>
        <p:grpSpPr>
          <a:xfrm>
            <a:off x="811080" y="1989000"/>
            <a:ext cx="1744920" cy="4103640"/>
            <a:chOff x="811080" y="1989000"/>
            <a:chExt cx="1744920" cy="4103640"/>
          </a:xfrm>
        </p:grpSpPr>
        <p:cxnSp>
          <p:nvCxnSpPr>
            <p:cNvPr id="411" name="AutoShape 16"/>
            <p:cNvCxnSpPr>
              <a:stCxn id="412" idx="11"/>
              <a:endCxn id="413" idx="0"/>
            </p:cNvCxnSpPr>
            <p:nvPr/>
          </p:nvCxnSpPr>
          <p:spPr>
            <a:xfrm>
              <a:off x="1665000" y="3731760"/>
              <a:ext cx="540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14" name="AutoShape 17"/>
            <p:cNvCxnSpPr>
              <a:stCxn id="415" idx="11"/>
              <a:endCxn id="416" idx="0"/>
            </p:cNvCxnSpPr>
            <p:nvPr/>
          </p:nvCxnSpPr>
          <p:spPr>
            <a:xfrm>
              <a:off x="1665000" y="4876920"/>
              <a:ext cx="540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17" name="AutoShape 15"/>
            <p:cNvCxnSpPr/>
            <p:nvPr/>
          </p:nvCxnSpPr>
          <p:spPr>
            <a:xfrm>
              <a:off x="1692360" y="2491920"/>
              <a:ext cx="216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18" name="Group 42"/>
            <p:cNvGrpSpPr/>
            <p:nvPr/>
          </p:nvGrpSpPr>
          <p:grpSpPr>
            <a:xfrm>
              <a:off x="811080" y="3154320"/>
              <a:ext cx="1717920" cy="2938320"/>
              <a:chOff x="811080" y="3154320"/>
              <a:chExt cx="1717920" cy="2938320"/>
            </a:xfrm>
          </p:grpSpPr>
          <p:grpSp>
            <p:nvGrpSpPr>
              <p:cNvPr id="419" name="Group 9"/>
              <p:cNvGrpSpPr/>
              <p:nvPr/>
            </p:nvGrpSpPr>
            <p:grpSpPr>
              <a:xfrm>
                <a:off x="811080" y="4307040"/>
                <a:ext cx="1717920" cy="642600"/>
                <a:chOff x="811080" y="4307040"/>
                <a:chExt cx="1717920" cy="642600"/>
              </a:xfrm>
            </p:grpSpPr>
            <p:sp>
              <p:nvSpPr>
                <p:cNvPr id="415" name="Freeform 10"/>
                <p:cNvSpPr/>
                <p:nvPr/>
              </p:nvSpPr>
              <p:spPr>
                <a:xfrm>
                  <a:off x="912240" y="4677120"/>
                  <a:ext cx="1515240" cy="27252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13" name="Rectangle 11"/>
                <p:cNvSpPr/>
                <p:nvPr/>
              </p:nvSpPr>
              <p:spPr>
                <a:xfrm>
                  <a:off x="811080" y="4307040"/>
                  <a:ext cx="171792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feeb1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20" name="Group 12"/>
              <p:cNvGrpSpPr/>
              <p:nvPr/>
            </p:nvGrpSpPr>
            <p:grpSpPr>
              <a:xfrm>
                <a:off x="811080" y="5457960"/>
                <a:ext cx="1717920" cy="634680"/>
                <a:chOff x="811080" y="5457960"/>
                <a:chExt cx="1717920" cy="634680"/>
              </a:xfrm>
            </p:grpSpPr>
            <p:sp>
              <p:nvSpPr>
                <p:cNvPr id="421" name="Freeform 13"/>
                <p:cNvSpPr/>
                <p:nvPr/>
              </p:nvSpPr>
              <p:spPr>
                <a:xfrm>
                  <a:off x="912240" y="5823360"/>
                  <a:ext cx="1515240" cy="2692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16" name="Rectangle 14"/>
                <p:cNvSpPr/>
                <p:nvPr/>
              </p:nvSpPr>
              <p:spPr>
                <a:xfrm>
                  <a:off x="811080" y="5457960"/>
                  <a:ext cx="17179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7ecff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22" name="Group 6"/>
              <p:cNvGrpSpPr/>
              <p:nvPr/>
            </p:nvGrpSpPr>
            <p:grpSpPr>
              <a:xfrm>
                <a:off x="811080" y="3154320"/>
                <a:ext cx="1717920" cy="652320"/>
                <a:chOff x="811080" y="3154320"/>
                <a:chExt cx="1717920" cy="652320"/>
              </a:xfrm>
            </p:grpSpPr>
            <p:sp>
              <p:nvSpPr>
                <p:cNvPr id="412" name="Freeform 7"/>
                <p:cNvSpPr/>
                <p:nvPr/>
              </p:nvSpPr>
              <p:spPr>
                <a:xfrm>
                  <a:off x="912240" y="3530160"/>
                  <a:ext cx="1515240" cy="276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23" name="Rectangle 8"/>
                <p:cNvSpPr/>
                <p:nvPr/>
              </p:nvSpPr>
              <p:spPr>
                <a:xfrm>
                  <a:off x="811080" y="3154320"/>
                  <a:ext cx="171792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89"/>
                    </a:gs>
                    <a:gs pos="100000">
                      <a:srgbClr val="ffc3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grpSp>
          <p:nvGrpSpPr>
            <p:cNvPr id="424" name="Group 34"/>
            <p:cNvGrpSpPr/>
            <p:nvPr/>
          </p:nvGrpSpPr>
          <p:grpSpPr>
            <a:xfrm>
              <a:off x="838080" y="1989000"/>
              <a:ext cx="1717920" cy="652320"/>
              <a:chOff x="838080" y="1989000"/>
              <a:chExt cx="1717920" cy="652320"/>
            </a:xfrm>
          </p:grpSpPr>
          <p:sp>
            <p:nvSpPr>
              <p:cNvPr id="425" name="Freeform 35"/>
              <p:cNvSpPr/>
              <p:nvPr/>
            </p:nvSpPr>
            <p:spPr>
              <a:xfrm>
                <a:off x="939240" y="2364840"/>
                <a:ext cx="1515240" cy="276480"/>
              </a:xfrm>
              <a:custGeom>
                <a:avLst/>
                <a:gdLst>
                  <a:gd name="textAreaLeft" fmla="*/ 0 w 1515240"/>
                  <a:gd name="textAreaRight" fmla="*/ 1515600 w 151524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426" name="Rectangle 36"/>
              <p:cNvSpPr/>
              <p:nvPr/>
            </p:nvSpPr>
            <p:spPr>
              <a:xfrm>
                <a:off x="838080" y="1989000"/>
                <a:ext cx="171792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sp>
        <p:nvSpPr>
          <p:cNvPr id="427" name="Line 44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2700360" y="220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符合专业培养目标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2700360" y="342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结合自己的工作实践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2700360" y="4581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宜小不宜大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2771640" y="5516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不得是调查报告或者心得体会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cc3300"/>
              </a:solidFill>
              <a:latin typeface="Arial"/>
              <a:ea typeface="宋体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幼儿入园分离焦虑产生的原因及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좋은 귀염둥이빼로"/>
                <a:ea typeface="좋은 귀염둥이빼로"/>
              </a:rPr>
              <a:t>资料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36" name="Line 20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37" name="Line 18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grpSp>
        <p:nvGrpSpPr>
          <p:cNvPr id="438" name="Group 43"/>
          <p:cNvGrpSpPr/>
          <p:nvPr/>
        </p:nvGrpSpPr>
        <p:grpSpPr>
          <a:xfrm>
            <a:off x="811080" y="1989000"/>
            <a:ext cx="1744920" cy="4103640"/>
            <a:chOff x="811080" y="1989000"/>
            <a:chExt cx="1744920" cy="4103640"/>
          </a:xfrm>
        </p:grpSpPr>
        <p:cxnSp>
          <p:nvCxnSpPr>
            <p:cNvPr id="439" name="AutoShape 16"/>
            <p:cNvCxnSpPr>
              <a:stCxn id="440" idx="11"/>
              <a:endCxn id="441" idx="0"/>
            </p:cNvCxnSpPr>
            <p:nvPr/>
          </p:nvCxnSpPr>
          <p:spPr>
            <a:xfrm>
              <a:off x="1665000" y="3731760"/>
              <a:ext cx="5400" cy="575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42" name="AutoShape 17"/>
            <p:cNvCxnSpPr>
              <a:stCxn id="443" idx="11"/>
              <a:endCxn id="444" idx="0"/>
            </p:cNvCxnSpPr>
            <p:nvPr/>
          </p:nvCxnSpPr>
          <p:spPr>
            <a:xfrm>
              <a:off x="1665000" y="4876920"/>
              <a:ext cx="540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45" name="AutoShape 15"/>
            <p:cNvCxnSpPr/>
            <p:nvPr/>
          </p:nvCxnSpPr>
          <p:spPr>
            <a:xfrm>
              <a:off x="1692360" y="2491920"/>
              <a:ext cx="216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46" name="Group 42"/>
            <p:cNvGrpSpPr/>
            <p:nvPr/>
          </p:nvGrpSpPr>
          <p:grpSpPr>
            <a:xfrm>
              <a:off x="811080" y="3154320"/>
              <a:ext cx="1717920" cy="2938320"/>
              <a:chOff x="811080" y="3154320"/>
              <a:chExt cx="1717920" cy="2938320"/>
            </a:xfrm>
          </p:grpSpPr>
          <p:grpSp>
            <p:nvGrpSpPr>
              <p:cNvPr id="447" name="Group 9"/>
              <p:cNvGrpSpPr/>
              <p:nvPr/>
            </p:nvGrpSpPr>
            <p:grpSpPr>
              <a:xfrm>
                <a:off x="811080" y="4307040"/>
                <a:ext cx="1717920" cy="642600"/>
                <a:chOff x="811080" y="4307040"/>
                <a:chExt cx="1717920" cy="642600"/>
              </a:xfrm>
            </p:grpSpPr>
            <p:sp>
              <p:nvSpPr>
                <p:cNvPr id="443" name="Freeform 10"/>
                <p:cNvSpPr/>
                <p:nvPr/>
              </p:nvSpPr>
              <p:spPr>
                <a:xfrm>
                  <a:off x="912240" y="4677120"/>
                  <a:ext cx="1515240" cy="27252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41" name="Rectangle 11"/>
                <p:cNvSpPr/>
                <p:nvPr/>
              </p:nvSpPr>
              <p:spPr>
                <a:xfrm>
                  <a:off x="811080" y="4307040"/>
                  <a:ext cx="171792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feeb1"/>
                    </a:gs>
                    <a:gs pos="100000">
                      <a:srgbClr val="a8d02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48" name="Group 12"/>
              <p:cNvGrpSpPr/>
              <p:nvPr/>
            </p:nvGrpSpPr>
            <p:grpSpPr>
              <a:xfrm>
                <a:off x="811080" y="5457960"/>
                <a:ext cx="1717920" cy="634680"/>
                <a:chOff x="811080" y="5457960"/>
                <a:chExt cx="1717920" cy="634680"/>
              </a:xfrm>
            </p:grpSpPr>
            <p:sp>
              <p:nvSpPr>
                <p:cNvPr id="449" name="Freeform 13"/>
                <p:cNvSpPr/>
                <p:nvPr/>
              </p:nvSpPr>
              <p:spPr>
                <a:xfrm>
                  <a:off x="912240" y="5823360"/>
                  <a:ext cx="1515240" cy="2692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44" name="Rectangle 14"/>
                <p:cNvSpPr/>
                <p:nvPr/>
              </p:nvSpPr>
              <p:spPr>
                <a:xfrm>
                  <a:off x="811080" y="5457960"/>
                  <a:ext cx="17179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7ecff"/>
                    </a:gs>
                    <a:gs pos="100000">
                      <a:srgbClr val="5cb1f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  <p:grpSp>
            <p:nvGrpSpPr>
              <p:cNvPr id="450" name="Group 6"/>
              <p:cNvGrpSpPr/>
              <p:nvPr/>
            </p:nvGrpSpPr>
            <p:grpSpPr>
              <a:xfrm>
                <a:off x="811080" y="3154320"/>
                <a:ext cx="1717920" cy="652320"/>
                <a:chOff x="811080" y="3154320"/>
                <a:chExt cx="1717920" cy="652320"/>
              </a:xfrm>
            </p:grpSpPr>
            <p:sp>
              <p:nvSpPr>
                <p:cNvPr id="440" name="Freeform 7"/>
                <p:cNvSpPr/>
                <p:nvPr/>
              </p:nvSpPr>
              <p:spPr>
                <a:xfrm>
                  <a:off x="912240" y="3530160"/>
                  <a:ext cx="1515240" cy="276480"/>
                </a:xfrm>
                <a:custGeom>
                  <a:avLst/>
                  <a:gdLst>
                    <a:gd name="textAreaLeft" fmla="*/ 0 w 1515240"/>
                    <a:gd name="textAreaRight" fmla="*/ 1515600 w 1515240"/>
                    <a:gd name="textAreaTop" fmla="*/ 0 h 276480"/>
                    <a:gd name="textAreaBottom" fmla="*/ 276840 h 276480"/>
                  </a:gdLst>
                  <a:ahLst/>
                  <a:rect l="textAreaLeft" t="textAreaTop" r="textAreaRight" b="textAreaBottom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  <p:sp>
              <p:nvSpPr>
                <p:cNvPr id="451" name="Rectangle 8"/>
                <p:cNvSpPr/>
                <p:nvPr/>
              </p:nvSpPr>
              <p:spPr>
                <a:xfrm>
                  <a:off x="811080" y="3154320"/>
                  <a:ext cx="1717920" cy="572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89"/>
                    </a:gs>
                    <a:gs pos="100000">
                      <a:srgbClr val="ffc3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HY얕은샘물M"/>
                  </a:endParaRPr>
                </a:p>
              </p:txBody>
            </p:sp>
          </p:grpSp>
        </p:grpSp>
        <p:grpSp>
          <p:nvGrpSpPr>
            <p:cNvPr id="452" name="Group 34"/>
            <p:cNvGrpSpPr/>
            <p:nvPr/>
          </p:nvGrpSpPr>
          <p:grpSpPr>
            <a:xfrm>
              <a:off x="838080" y="1989000"/>
              <a:ext cx="1717920" cy="652320"/>
              <a:chOff x="838080" y="1989000"/>
              <a:chExt cx="1717920" cy="652320"/>
            </a:xfrm>
          </p:grpSpPr>
          <p:sp>
            <p:nvSpPr>
              <p:cNvPr id="453" name="Freeform 35"/>
              <p:cNvSpPr/>
              <p:nvPr/>
            </p:nvSpPr>
            <p:spPr>
              <a:xfrm>
                <a:off x="939240" y="2364840"/>
                <a:ext cx="1515240" cy="276480"/>
              </a:xfrm>
              <a:custGeom>
                <a:avLst/>
                <a:gdLst>
                  <a:gd name="textAreaLeft" fmla="*/ 0 w 1515240"/>
                  <a:gd name="textAreaRight" fmla="*/ 1515600 w 151524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  <p:sp>
            <p:nvSpPr>
              <p:cNvPr id="454" name="Rectangle 36"/>
              <p:cNvSpPr/>
              <p:nvPr/>
            </p:nvSpPr>
            <p:spPr>
              <a:xfrm>
                <a:off x="838080" y="1989000"/>
                <a:ext cx="1717920" cy="57240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HY얕은샘물M"/>
                </a:endParaRPr>
              </a:p>
            </p:txBody>
          </p:sp>
        </p:grpSp>
      </p:grpSp>
      <p:sp>
        <p:nvSpPr>
          <p:cNvPr id="455" name="Line 44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56" name="TextBox 25"/>
          <p:cNvSpPr/>
          <p:nvPr/>
        </p:nvSpPr>
        <p:spPr>
          <a:xfrm>
            <a:off x="2700360" y="220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知网</a:t>
            </a:r>
            <a:r>
              <a:rPr b="1" lang="en-US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www.cnki.net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2700360" y="342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百度</a:t>
            </a:r>
            <a:r>
              <a:rPr b="1" lang="en-US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www.baidu.com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58" name="TextBox 27"/>
          <p:cNvSpPr/>
          <p:nvPr/>
        </p:nvSpPr>
        <p:spPr>
          <a:xfrm>
            <a:off x="2700360" y="4581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书店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59" name="TextBox 28"/>
          <p:cNvSpPr/>
          <p:nvPr/>
        </p:nvSpPr>
        <p:spPr>
          <a:xfrm>
            <a:off x="2771640" y="5516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掌握资料而不是抄袭资料</a:t>
            </a: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admin</dc:creator>
  <dc:description/>
  <dc:language>en-US</dc:language>
  <cp:lastModifiedBy>thinkpad</cp:lastModifiedBy>
  <dcterms:modified xsi:type="dcterms:W3CDTF">2017-09-02T07:07:51Z</dcterms:modified>
  <cp:revision>119</cp:revision>
  <dc:subject/>
  <dc:title>ThemeGallery PowerTemplate</dc:title>
</cp:coreProperties>
</file>